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768-C810-4C8C-B7CF-9E5C52335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6D8-E891-48FF-8D16-A21198382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EC81-F2C9-4571-B470-F03BA21B6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A6AF-C00A-45EF-9E36-F70D267DB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C887-DB21-433F-8750-03E533981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A50E-9965-4CD1-8D2D-4D7DF1FEC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86B9-D734-4646-944B-0DE9E78288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7E76-4903-43FE-9DE2-CE5B45B83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7C65-2482-4154-809D-5E3C666CB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784D-F3CF-4843-A03B-7CC238D28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FA6E-1EA6-4BDF-A901-5E1F48A21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A3CD-A213-4C5A-BE6F-5B9A765CE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08D8-4484-4052-950B-A973E03BC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D740-4AA4-4D60-A9B5-4E5E185B1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9C61-4DA5-4216-8D21-310BB1EE6734}" type="slidenum">
              <a:rPr b="1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828800" y="6629400"/>
            <a:ext cx="548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822cd"/>
                </a:solidFill>
                <a:latin typeface="Arial"/>
                <a:ea typeface="Arial"/>
              </a:rPr>
              <a:t>NSTX-U Res. Forum 2015 – M&amp;P Agenda  and Introduction (2/25/2015)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9907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XP Prioritization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562040" y="208296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s &amp; Plasma-facing componen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al Science Group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76520" y="3352680"/>
            <a:ext cx="5715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STX-U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PPL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bruary 24-27, 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8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80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4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8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9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0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3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&amp;P parallel session summa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presentations provided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itial request for time was 14.5d, 8.5d with “minimums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hour open discussion held at the end to provide priorities and distribu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initial XPs were paired up resulting in multiple authors o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allocation provides split between R16-2 and M&amp;P thru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cation provid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5d for R16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.5d for M&amp;P thrusts 1&amp;2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cation assumes XMP requests fulfilled with cross-cutting tim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&amp;P Summary Tab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760" y="762120"/>
          <a:ext cx="9043920" cy="5665680"/>
        </p:xfrm>
        <a:graphic>
          <a:graphicData uri="http://schemas.openxmlformats.org/drawingml/2006/table">
            <a:tbl>
              <a:tblPr/>
              <a:tblGrid>
                <a:gridCol w="538200"/>
                <a:gridCol w="1995480"/>
                <a:gridCol w="1162080"/>
                <a:gridCol w="762120"/>
                <a:gridCol w="761760"/>
                <a:gridCol w="609840"/>
                <a:gridCol w="761760"/>
                <a:gridCol w="443160"/>
                <a:gridCol w="803160"/>
                <a:gridCol w="1206360"/>
              </a:tblGrid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Titl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(s)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al area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tim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8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transmission pathways and leading edge effect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orski/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6-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+ 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j &amp; div. puff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P req. for shap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8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onization Optimization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ner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P + few shot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cutting time assume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8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OC, mixed material migration and IBA target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d/Nichols/Wright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1,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+ 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out run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6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 Li longevit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i/Allain/Bedoya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1,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dep, Pinj, div puff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P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5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d Mo (high-Z metal) surface stud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ner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1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gy-back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M effects on mixed material migration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ols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gy-back ELMy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8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ur of high-Z impurities…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k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6-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Z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/Xe gas puff, HHFW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in PCTF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ng Surface Science 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l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1,2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science</a:t>
                      </a:r>
                      <a:endParaRPr b="1" i="1" lang="en-US" sz="1600" spc="-1" strike="noStrike">
                        <a:solidFill>
                          <a:srgbClr val="1822cd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lf-reported categoriz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4568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Shape development (cross-cutting time)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B-zation optimization (need to determine if already accounted)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MAPP commission (cross-cutting ok NTC access)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estone support XPs (2 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Establish heat transmission pathways... (Jaworski) 1.5d (split B and Li)</a:t>
            </a:r>
            <a:endParaRPr b="0" lang="en-US" sz="15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Leading edge power loading... (Gray)</a:t>
            </a:r>
            <a:endParaRPr b="0" lang="en-US" sz="13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Behaviour of high-Z impurities… (Reinke) better fit for FY17 but discuss in PCTF</a:t>
            </a:r>
            <a:endParaRPr b="0" lang="en-US" sz="15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osion-modeling-MAPP connections (2 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Boundary diagnostic optimized... (Soukhanovskii) 1d (B and Li throughout run)</a:t>
            </a:r>
            <a:endParaRPr b="0" lang="en-US" sz="15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Nichols WallDYN ELM-free (0.5 of 1)</a:t>
            </a:r>
            <a:endParaRPr b="0" lang="en-US" sz="13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Ex-situ IBA of targets... (Wright) (piggy-back)</a:t>
            </a:r>
            <a:endParaRPr b="0" lang="en-US" sz="13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Understanding longevity... (Scotti – Allain – Bedoya) 1d</a:t>
            </a:r>
            <a:endParaRPr b="0" lang="en-US" sz="15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Periodic evaluation of PFC... (Scotti) (piggy-back)</a:t>
            </a:r>
            <a:endParaRPr b="0" lang="en-US" sz="13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Connecting MAPP... (Scotti) </a:t>
            </a:r>
            <a:endParaRPr b="0" lang="en-US" sz="13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-zation optimization (Skinner) (if not XMP) .5d (other half from cross-cutting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LM effects on mixed materials…(Nichols) (piggy-back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rface Science (Koel) (piggy-back and support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extured Mo surface (Skinner) (piggy-back low triangularity also shape dev. XMP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-zation optimization (Skinner) (if not XMP) .5d (other half from cross-cutting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tional prioritization and logistics for MAPP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Michael Jaworski</cp:lastModifiedBy>
  <dcterms:modified xsi:type="dcterms:W3CDTF">2015-02-26T16:16:09Z</dcterms:modified>
  <cp:revision>12417</cp:revision>
  <dc:subject/>
  <dc:title>NSTX presentation</dc:title>
</cp:coreProperties>
</file>