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3640" y="68400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621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6E25-BFAF-4337-BD24-0066A1300F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A7E-5F12-4C79-A055-C23EA8C70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7466-1875-410B-B329-4A64BCDF2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EE94-ADA6-4014-B0CF-F970B4C709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0E34-BB9C-42B5-91FD-ED709F751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D7D9-B6DE-4549-BC56-06DAEEFE5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24EB-1FFC-43A2-A3FE-AF88AE5A1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50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78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50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78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B5FA-E601-4135-99F9-55D5D2BF0B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BA10-FB1C-47D8-98E1-D8085FB85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6D48-4431-4604-A31A-8752132E5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7B16-A200-43B9-B5B1-D6E41DC55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11BA-25FC-4DD2-BBF3-A0DD8841F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5EF3-FA07-4EA7-A308-9696C6565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BA8C-1A8D-4F7E-A7E6-09D99E3DE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5103-A562-4585-A13F-801CC6157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2480-A613-43EE-BEAA-8D8BE48D6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" name="Picture 194" descr=""/>
          <p:cNvPicPr/>
          <p:nvPr/>
        </p:nvPicPr>
        <p:blipFill>
          <a:blip r:embed="rId3"/>
          <a:stretch/>
        </p:blipFill>
        <p:spPr>
          <a:xfrm>
            <a:off x="0" y="6578640"/>
            <a:ext cx="914400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9"/>
          <p:cNvSpPr/>
          <p:nvPr/>
        </p:nvSpPr>
        <p:spPr>
          <a:xfrm>
            <a:off x="272880" y="6635880"/>
            <a:ext cx="7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81520" y="6629040"/>
            <a:ext cx="762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cc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6272-1CDA-4BCF-9633-56667E18DF2B}" type="slidenum">
              <a:rPr b="1" lang="en-US" sz="900" spc="-1" strike="noStrike">
                <a:solidFill>
                  <a:srgbClr val="3333cc"/>
                </a:solidFill>
                <a:latin typeface="Arial"/>
                <a:ea typeface="MS PGothic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1828800" y="6629400"/>
            <a:ext cx="548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2cd"/>
                </a:solidFill>
                <a:latin typeface="Arial"/>
                <a:ea typeface="Arial"/>
              </a:rPr>
              <a:t>NSTX-U Res. Forum 2015 – M&amp;P Agenda  and Introduction (2/25/2015)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5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2" name="Line 15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4" name="Line 1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5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9907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S PGothic"/>
              </a:rPr>
              <a:t>Materials and PFCs Topical Science Group</a:t>
            </a:r>
            <a:endParaRPr b="1" i="1" lang="en-US" sz="32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S PGothic"/>
              </a:rPr>
              <a:t>Introduction and Agenda</a:t>
            </a:r>
            <a:endParaRPr b="1" i="1" lang="en-US" sz="3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7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8" name="Line 1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9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562040" y="208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 Jaworski, C Skinner, JP Allain, B Wirth</a:t>
            </a:r>
            <a:endParaRPr b="1" i="1" lang="en-US" sz="20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2" name="Line 1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76520" y="3352680"/>
            <a:ext cx="5715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STX-U Research Forum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PPL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bruary 24-27, 2015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5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6" name="Line 1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8" name="Line 1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9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0" name="Line 1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1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2" name="Line 1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3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4" name="Line 1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6" name="Line 1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7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8" name="Line 1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9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80" name="Picture 12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839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2" name="Line 1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3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4" name="Text Box 128"/>
          <p:cNvSpPr/>
          <p:nvPr/>
        </p:nvSpPr>
        <p:spPr>
          <a:xfrm>
            <a:off x="838080" y="109440"/>
            <a:ext cx="1905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3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5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6" name="Line 1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7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8" name="Rectangle 129"/>
          <p:cNvSpPr/>
          <p:nvPr/>
        </p:nvSpPr>
        <p:spPr>
          <a:xfrm>
            <a:off x="3651120" y="228600"/>
            <a:ext cx="153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upported by   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9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0" name="Line 14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3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94" name="Picture 53" descr="ppi224.tmp"/>
          <p:cNvPicPr/>
          <p:nvPr/>
        </p:nvPicPr>
        <p:blipFill>
          <a:blip r:embed="rId2"/>
          <a:stretch/>
        </p:blipFill>
        <p:spPr>
          <a:xfrm>
            <a:off x="7696080" y="2286000"/>
            <a:ext cx="129564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6" name="Text Box 153"/>
          <p:cNvSpPr/>
          <p:nvPr/>
        </p:nvSpPr>
        <p:spPr>
          <a:xfrm>
            <a:off x="7696080" y="2359440"/>
            <a:ext cx="12956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ulham Sci Ct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York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ub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uku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iroshim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yog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ot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Toka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F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igat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U Toky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JAE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0000"/>
                </a:solidFill>
                <a:latin typeface="Arial"/>
              </a:rPr>
              <a:t>Inst for Nucl Res, Kiev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offe In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TRINI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onbuk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FR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AI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POSTE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Seoul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IP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IEMA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OM Inst DIFF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ENEA, Frasca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EA, Cadarach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Jüli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Garching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CR, Czech Re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7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8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9" name="Straight Connector 5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0" name="Picture 3" descr="C:\Users\jmenard\Desktop\Picture1.jpg"/>
          <p:cNvPicPr/>
          <p:nvPr/>
        </p:nvPicPr>
        <p:blipFill>
          <a:blip r:embed="rId3"/>
          <a:stretch/>
        </p:blipFill>
        <p:spPr>
          <a:xfrm>
            <a:off x="4237200" y="4495680"/>
            <a:ext cx="3078000" cy="22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8" descr="ppi221.tmp"/>
          <p:cNvPicPr/>
          <p:nvPr/>
        </p:nvPicPr>
        <p:blipFill>
          <a:blip r:embed="rId4"/>
          <a:stretch/>
        </p:blipFill>
        <p:spPr>
          <a:xfrm>
            <a:off x="152280" y="2209680"/>
            <a:ext cx="1295640" cy="4496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52"/>
          <p:cNvSpPr/>
          <p:nvPr/>
        </p:nvSpPr>
        <p:spPr>
          <a:xfrm>
            <a:off x="152280" y="2209680"/>
            <a:ext cx="125748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l of Wm &amp; Mary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umbi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mpX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General Atom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FI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I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Johns Hopkins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A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L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odesta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MI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ehigh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Nova Photon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OR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PP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rinceton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urdue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S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Think Tank, Inc.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Dav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Irvin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L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S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Colorad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Illino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Marylan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Rochest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ennesse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uls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ashingto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isconsi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X Science LLC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3" name="Picture 57" descr=""/>
          <p:cNvPicPr/>
          <p:nvPr/>
        </p:nvPicPr>
        <p:blipFill>
          <a:blip r:embed="rId5"/>
          <a:stretch/>
        </p:blipFill>
        <p:spPr>
          <a:xfrm>
            <a:off x="1763640" y="4343400"/>
            <a:ext cx="2274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5" name="Straight Connector 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&amp;P Agenda 1/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91440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- Jawor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P and XP presentations (2 hours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 Commissioning XMP (All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zation optimization XMP (Ski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Z reference discharge development XMP (Jawor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P Group 1: Milestone R16-2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heat transmission pathways... (Jawor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ing edge power loading... (G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diagnostic optimized... (Soukhanovsk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ur of high-Z impurities… (Rein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material migration... (Nich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M effects on mixed material... (Nich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0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8381880" y="662940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3EA1-65C4-4667-B99A-01A38FBAE001}" type="slidenum">
              <a:rPr b="1" lang="en-US" sz="900" spc="-1" strike="noStrike">
                <a:solidFill>
                  <a:srgbClr val="3333cc"/>
                </a:solidFill>
                <a:latin typeface="Arial"/>
                <a:ea typeface="MS PGothic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2" name="Straight Connector 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6320" y="914400"/>
            <a:ext cx="4038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 – 9:14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14 – 9:22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22 – 9:30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30 – 9:38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38 –  9:46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–  9:54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54 – 10:04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4 – 10:12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12 – 10:20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20 – 10:28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28 – 10:40      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1676520" y="6172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822cd"/>
                </a:solidFill>
                <a:latin typeface="Arial"/>
              </a:rPr>
              <a:t>Break</a:t>
            </a:r>
            <a:endParaRPr b="1" i="1" lang="en-US" sz="20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6" name="Straight Connector 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&amp;P Agenda (2/2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6553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P Group 2: M&amp;P TSG Thrust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Science (Ko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d Mo surface (Ski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-situ IBA of targets... (Wr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MAPP measurements... (Scot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aluation of PFC... (Scot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the longevity... (Scot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reak (~10 min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prioritization and run-time allocation discussion for M&amp;P TSG (~1 ho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courtesy to your fellow speakers, please try to stay on time.  I will be moderating the time as best I 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21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8381880" y="662940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5B18-0FFA-435A-9BEF-84F155402950}" type="slidenum">
              <a:rPr b="1" lang="en-US" sz="900" spc="-1" strike="noStrike">
                <a:solidFill>
                  <a:srgbClr val="3333cc"/>
                </a:solidFill>
                <a:latin typeface="Arial"/>
                <a:ea typeface="MS PGothic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23" name="Straight Connector 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52280" y="1066680"/>
            <a:ext cx="1828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40 – 10:48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48 – 10:56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56 – 11:04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04 – 11:14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14 – 11:22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22 – 11:30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 – 11:40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40 – 12:30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Y2016 milestone R16-2 needs baseline data before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igh-Z upgrad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installation between FY15 and FY16 runs to support FY16 mile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ving machine shops evaluate differences in cost for W vs. Mo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argeting row-2 of NSTX-U with minimal divertor height chang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reference, high-Z discharge proposed at previous meeting alongside reference parameter s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ly opportunity to get baseline data before upgrade this coming outag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shape will also provide closer strike-point to MAPP location for material transport and evolution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8381880" y="662940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2556-A42F-47F5-887C-B7C02959BEB7}" type="slidenum">
              <a:rPr b="1" lang="en-US" sz="900" spc="-1" strike="noStrike">
                <a:solidFill>
                  <a:srgbClr val="3333cc"/>
                </a:solidFill>
                <a:latin typeface="Arial"/>
                <a:ea typeface="MS PGothic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7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29" name="Rectangle 5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f8f8f8">
                    <a:alpha val="30196"/>
                  </a:srgbClr>
                </a:gs>
                <a:gs pos="100000">
                  <a:srgbClr val="c8c8c8">
                    <a:alpha val="8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ff"/>
                  </a:solidFill>
                  <a:latin typeface="Arial"/>
                  <a:ea typeface="ヒラギノ角ゴ Pro W3"/>
                </a:rPr>
                <a:t>Materials Analysis and Particle Probe – enabling more than “waving dead chickens”</a:t>
              </a:r>
              <a:endParaRPr b="1" i="1" lang="en-US" sz="3000" spc="-1" strike="noStrike">
                <a:solidFill>
                  <a:srgbClr val="1822cd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200" spc="-1" strike="noStrike">
                <a:solidFill>
                  <a:srgbClr val="1822cd"/>
                </a:solidFill>
                <a:latin typeface="Arial"/>
              </a:endParaRPr>
            </a:p>
          </p:txBody>
        </p:sp>
      </p:grpSp>
      <p:pic>
        <p:nvPicPr>
          <p:cNvPr id="131" name="Picture 13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6789600" y="1006560"/>
            <a:ext cx="22100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sidual gas analyzer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7086600" y="20574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X-ray source (Mg Ka, Al Ka)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380880" y="158904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emispherical analyzer and microchannel plate detector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6858000" y="2971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on source (He, Ne, Ar)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612720" y="9777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urbopump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380880" y="28954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anslation bellows with attached rotary feedthrough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cxnSp>
        <p:nvCxnSpPr>
          <p:cNvPr id="138" name="Straight Arrow Connector 20"/>
          <p:cNvCxnSpPr>
            <a:stCxn id="135" idx="1"/>
          </p:cNvCxnSpPr>
          <p:nvPr/>
        </p:nvCxnSpPr>
        <p:spPr>
          <a:xfrm flipH="1" flipV="1">
            <a:off x="4952520" y="1904760"/>
            <a:ext cx="1905840" cy="1360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9" name="Straight Arrow Connector 21"/>
          <p:cNvCxnSpPr/>
          <p:nvPr/>
        </p:nvCxnSpPr>
        <p:spPr>
          <a:xfrm flipH="1" flipV="1">
            <a:off x="5976720" y="1599480"/>
            <a:ext cx="1186560" cy="610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40" name="Straight Arrow Connector 22"/>
          <p:cNvCxnSpPr/>
          <p:nvPr/>
        </p:nvCxnSpPr>
        <p:spPr>
          <a:xfrm flipH="1">
            <a:off x="4876560" y="1204560"/>
            <a:ext cx="2210400" cy="1134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41" name="Straight Arrow Connector 23"/>
          <p:cNvCxnSpPr>
            <a:stCxn id="136" idx="3"/>
          </p:cNvCxnSpPr>
          <p:nvPr/>
        </p:nvCxnSpPr>
        <p:spPr>
          <a:xfrm>
            <a:off x="1984320" y="1147320"/>
            <a:ext cx="1674000" cy="376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42" name="Straight Arrow Connector 24"/>
          <p:cNvCxnSpPr/>
          <p:nvPr/>
        </p:nvCxnSpPr>
        <p:spPr>
          <a:xfrm flipV="1">
            <a:off x="2209680" y="2742840"/>
            <a:ext cx="612000" cy="568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43" name="Straight Arrow Connector 25"/>
          <p:cNvCxnSpPr>
            <a:stCxn id="134" idx="3"/>
          </p:cNvCxnSpPr>
          <p:nvPr/>
        </p:nvCxnSpPr>
        <p:spPr>
          <a:xfrm>
            <a:off x="2133360" y="2128320"/>
            <a:ext cx="1600920" cy="2214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44" name=""/>
          <p:cNvGraphicFramePr/>
          <p:nvPr/>
        </p:nvGraphicFramePr>
        <p:xfrm>
          <a:off x="304920" y="4100400"/>
          <a:ext cx="8610480" cy="1690920"/>
        </p:xfrm>
        <a:graphic>
          <a:graphicData uri="http://schemas.openxmlformats.org/drawingml/2006/table">
            <a:tbl>
              <a:tblPr/>
              <a:tblGrid>
                <a:gridCol w="3352680"/>
                <a:gridCol w="3581280"/>
                <a:gridCol w="16765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ysis Techniqu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damental Information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 on LTX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-ray photoelectron spec. (XPS)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al/chemical state analysis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onal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rmal desorption spec. (TDS)*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nding E of surface volatiles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onal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-E ion scattering spec. (LEISS)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t Recoil Spectroscopy (DRS)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ities with LEISS and H with DRS in forward scattering geometry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development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TextBox 1"/>
          <p:cNvSpPr/>
          <p:nvPr/>
        </p:nvSpPr>
        <p:spPr>
          <a:xfrm>
            <a:off x="457200" y="6019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822cd"/>
                </a:solidFill>
                <a:latin typeface="Arial"/>
              </a:rPr>
              <a:t>More information from J.P. Allain later</a:t>
            </a:r>
            <a:endParaRPr b="1" i="1" lang="en-US" sz="20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ent on schedule and logistics concerning MAPP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for “ready for commissioning”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d-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chanical installation procedure (IP) complet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rawings for electrical IP in progres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uter control check scheduled April with UIUC suppor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 will require expert operator to obt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nnot think of this as archived RGA data (for example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lex diagnostic, like many others, and requires expert to sift through potential instrumental effects and other issues before providing interpretable dat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ires commitment from trained operator to be present for any XP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381880" y="662940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3A93-4F6D-4CB0-A86E-168C0E6066B9}" type="slidenum">
              <a:rPr b="1" lang="en-US" sz="900" spc="-1" strike="noStrike">
                <a:solidFill>
                  <a:srgbClr val="3333cc"/>
                </a:solidFill>
                <a:latin typeface="Arial"/>
                <a:ea typeface="MS PGothic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rest of this sess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s are given 8 minutes total with a recommendation of 5 minutes of slides, 3 fo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ime is set aside at the end of the session for prioritization and allocation discussion – keep discussion to XP scientific review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.g. NSF review criteria: What is potential for proposal to advance knowledge and understanding within the field?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es the proposal explore novel and/or transformative concepts?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the plan well-reasoned and based on sound rationale?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there adequate resources to carry out the proposed activities?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state clearly you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scharge shape (e.g. high-Z reference discharge shape, high-delta fiducial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oron only, Lithium only, both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s MAPP requested and your operato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6:23:57Z</dcterms:created>
  <dc:creator>NSTX team member</dc:creator>
  <dc:description/>
  <dc:language>en-US</dc:language>
  <cp:lastModifiedBy>Michael Jaworski</cp:lastModifiedBy>
  <dcterms:modified xsi:type="dcterms:W3CDTF">2015-02-24T19:18:02Z</dcterms:modified>
  <cp:revision>12386</cp:revision>
  <dc:subject/>
  <dc:title>NSTX presentation</dc:title>
</cp:coreProperties>
</file>