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3640" y="684000"/>
            <a:ext cx="466704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6A96-CD36-46C6-B9B3-BC8AB409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53FD-E96D-451F-977F-A60134C34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364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216D20E-EB3C-4E39-B39E-C777D0A77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92120" y="1152360"/>
            <a:ext cx="4149720" cy="311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27CA-0156-4FF5-9956-992197E4D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9FA6-1EBE-4BF8-BBB1-2D76851A4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3F23-1BED-4AC8-AB50-AD4329DB2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121932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380628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35DA-530F-4BC0-BB9E-301B78062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F1B9-97C0-4732-B362-15BAE2822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696D-F046-452E-ACA1-FCE2DDF88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BF9C-6B1E-43A4-83F0-5A57867F5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C472-B273-445D-AE60-09FDF4E2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CAB3-306E-411D-A8A7-CDD7A241B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4F60-1071-4750-BC49-8DF054A06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380628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F9E5-F936-4E10-A606-D1EC2EF5E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21932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D91E-F552-43E4-9BE0-91F6CD7B3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657864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72880" y="6635880"/>
            <a:ext cx="7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81520" y="66290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EA2C-9BE3-413D-806F-5BE12798BE33}" type="slidenum">
              <a:rPr b="1" lang="en-US" sz="9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&lt;number&gt;</a:t>
            </a:fld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traight Connector 5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Line 15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3" name="Line 1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4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04920" y="83808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Low-f MHD mode &amp; Fast ion redistribution </a:t>
            </a:r>
            <a:endParaRPr b="1" i="1" lang="en-US" sz="3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6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7" name="Line 1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8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523880" y="1800360"/>
            <a:ext cx="62485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.Z.Hao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D.Y.Liu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W.W.Heidbrink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A.Bortolon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G.J.Krame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M.Podesta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E.Fredrickson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D.Darrow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 Y.Q.Liu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9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University of California, Irvine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Princeton Plasma Physics Laboratory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 CCFE, Culham Science Centre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0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1" name="Line 1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3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4" name="Line 1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5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6" name="Line 1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7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8" name="Line 1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9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0" name="Line 1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Line 1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Line 1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Line 1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7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78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83952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0" name="Line 1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1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Text Box 128"/>
          <p:cNvSpPr/>
          <p:nvPr/>
        </p:nvSpPr>
        <p:spPr>
          <a:xfrm>
            <a:off x="838080" y="109440"/>
            <a:ext cx="190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1fc7"/>
                </a:solidFill>
                <a:latin typeface="Arial"/>
              </a:rPr>
              <a:t>NSTX-U</a:t>
            </a:r>
            <a:endParaRPr b="1" i="1" lang="en-US" sz="36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3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4" name="Line 1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6" name="Rectangle 129"/>
          <p:cNvSpPr/>
          <p:nvPr/>
        </p:nvSpPr>
        <p:spPr>
          <a:xfrm>
            <a:off x="3651120" y="228600"/>
            <a:ext cx="153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18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8" name="Line 14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0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1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2" name="Picture 53" descr="ppi224.tmp"/>
          <p:cNvPicPr/>
          <p:nvPr/>
        </p:nvPicPr>
        <p:blipFill>
          <a:blip r:embed="rId2"/>
          <a:stretch/>
        </p:blipFill>
        <p:spPr>
          <a:xfrm>
            <a:off x="7696080" y="2286000"/>
            <a:ext cx="129564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4" name="Text Box 153"/>
          <p:cNvSpPr/>
          <p:nvPr/>
        </p:nvSpPr>
        <p:spPr>
          <a:xfrm>
            <a:off x="7696080" y="2359440"/>
            <a:ext cx="12956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8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5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6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97" name="Straight Connector 5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98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237200" y="4495680"/>
            <a:ext cx="3078000" cy="22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8" descr="ppi221.tmp"/>
          <p:cNvPicPr/>
          <p:nvPr/>
        </p:nvPicPr>
        <p:blipFill>
          <a:blip r:embed="rId4"/>
          <a:stretch/>
        </p:blipFill>
        <p:spPr>
          <a:xfrm>
            <a:off x="152280" y="2209680"/>
            <a:ext cx="129564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2"/>
          <p:cNvSpPr/>
          <p:nvPr/>
        </p:nvSpPr>
        <p:spPr>
          <a:xfrm>
            <a:off x="152280" y="2209680"/>
            <a:ext cx="125748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01" name="Picture 57" descr=""/>
          <p:cNvPicPr/>
          <p:nvPr/>
        </p:nvPicPr>
        <p:blipFill>
          <a:blip r:embed="rId5"/>
          <a:stretch/>
        </p:blipFill>
        <p:spPr>
          <a:xfrm>
            <a:off x="1763640" y="4343400"/>
            <a:ext cx="227484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600200" y="38862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NSTX-U 2015 Research Forum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eb. 24-27, 2015</a:t>
            </a:r>
            <a:endParaRPr b="1" i="1" lang="en-US" sz="16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traight Connector 10"/>
          <p:cNvSpPr/>
          <p:nvPr/>
        </p:nvSpPr>
        <p:spPr>
          <a:xfrm>
            <a:off x="1143000" y="0"/>
            <a:ext cx="6858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4" name="Straight Connector 5"/>
          <p:cNvSpPr/>
          <p:nvPr/>
        </p:nvSpPr>
        <p:spPr>
          <a:xfrm>
            <a:off x="1143000" y="0"/>
            <a:ext cx="3430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1143000" y="0"/>
            <a:ext cx="3430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42720" y="1211040"/>
            <a:ext cx="466236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 Investigate how low-f MHD mode affects the fast ions(FI)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racterize the low-f MHD mode observed in NSTX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st ion redistribution induced by on-set of &amp; saturated low-f MHD mode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tributes to Milestone R(15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quest(Min) run time : 1(0.5)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-FIDA &amp;T-FIDA, ssNPA, sFLIP 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S, CHERS, BES, MSE,  reflectrometer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de: SPIRAL,TRANSP,MARS-K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1143000" y="0"/>
            <a:ext cx="3430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1143000" y="0"/>
            <a:ext cx="3430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114300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-457200" y="228600"/>
            <a:ext cx="9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ntroduction</a:t>
            </a:r>
            <a:endParaRPr b="1" i="1" lang="en-US" sz="28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5099040" y="1079640"/>
            <a:ext cx="3408480" cy="48942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7"/>
          <p:cNvSpPr/>
          <p:nvPr/>
        </p:nvSpPr>
        <p:spPr>
          <a:xfrm>
            <a:off x="5795640" y="596736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822cd"/>
                </a:solidFill>
                <a:latin typeface="Arial"/>
              </a:rPr>
              <a:t>A.Bortonlon.et.al 2012APS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Guangzhou Hao</cp:lastModifiedBy>
  <dcterms:modified xsi:type="dcterms:W3CDTF">2015-02-23T22:36:40Z</dcterms:modified>
  <cp:revision>12372</cp:revision>
  <dc:subject/>
  <dc:title>NSTX presentation</dc:title>
</cp:coreProperties>
</file>