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61C0-F36C-4C20-83CC-2A6DDA63A1F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F1CE-C723-41DF-9E45-50C8445A3F88}"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218E-F93A-4730-9B8F-406287719F01}"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2623-CFE7-4FED-B68C-3BC80D70ACB1}"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89CC-0284-4E63-9FF0-5B7C83371EA9}"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40FD-9D40-40FD-A8E4-11D09ACFBFF9}"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1"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5"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6"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9"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0"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1"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2"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3"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1"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6"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7"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0"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1"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5"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8"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1"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2"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3"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6"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7"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8"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9"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90"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9"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0"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3"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4"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7"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8"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3" name="Picture 14" descr="PowerPoint_Graphic"/>
          <p:cNvPicPr/>
          <p:nvPr/>
        </p:nvPicPr>
        <p:blipFill>
          <a:blip r:embed="rId2"/>
          <a:stretch/>
        </p:blipFill>
        <p:spPr>
          <a:xfrm>
            <a:off x="0" y="6235560"/>
            <a:ext cx="9144000" cy="622440"/>
          </a:xfrm>
          <a:prstGeom prst="rect">
            <a:avLst/>
          </a:prstGeom>
          <a:ln w="0">
            <a:noFill/>
          </a:ln>
        </p:spPr>
      </p:pic>
      <p:sp>
        <p:nvSpPr>
          <p:cNvPr id="4"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5"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4D66CBDA-31B9-4B3D-AB4D-D7153486D6DD}"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6"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JWUH</a:t>
            </a:r>
            <a:endParaRPr b="0" lang="en-US" sz="800" spc="-1" strike="noStrike">
              <a:solidFill>
                <a:srgbClr val="000000"/>
              </a:solidFill>
              <a:latin typeface="Century Gothic"/>
            </a:endParaRPr>
          </a:p>
        </p:txBody>
      </p:sp>
      <p:sp>
        <p:nvSpPr>
          <p:cNvPr id="7"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45" name="Picture 14" descr="PowerPoint_Graphic"/>
          <p:cNvPicPr/>
          <p:nvPr/>
        </p:nvPicPr>
        <p:blipFill>
          <a:blip r:embed="rId2"/>
          <a:stretch/>
        </p:blipFill>
        <p:spPr>
          <a:xfrm>
            <a:off x="0" y="6235560"/>
            <a:ext cx="9144000" cy="622440"/>
          </a:xfrm>
          <a:prstGeom prst="rect">
            <a:avLst/>
          </a:prstGeom>
          <a:ln w="0">
            <a:noFill/>
          </a:ln>
        </p:spPr>
      </p:pic>
      <p:sp>
        <p:nvSpPr>
          <p:cNvPr id="46"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47"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1C11FAC9-B6D6-4C6F-BFDA-E095EC3C6BDF}"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48"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JWUH</a:t>
            </a:r>
            <a:endParaRPr b="0" lang="en-US" sz="800" spc="-1" strike="noStrike">
              <a:solidFill>
                <a:srgbClr val="000000"/>
              </a:solidFill>
              <a:latin typeface="Century Gothic"/>
            </a:endParaRPr>
          </a:p>
        </p:txBody>
      </p:sp>
      <p:sp>
        <p:nvSpPr>
          <p:cNvPr id="49"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 name="Line 4"/>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1" name="Straight Connector 11"/>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2" name="TextBox 12"/>
          <p:cNvSpPr/>
          <p:nvPr/>
        </p:nvSpPr>
        <p:spPr>
          <a:xfrm>
            <a:off x="539640" y="5961240"/>
            <a:ext cx="8353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Disclaimer: The views and opinions expressed herein do not necessarily reflect those of the ITER Organization</a:t>
            </a:r>
            <a:endParaRPr b="0" lang="en-US" sz="1100" spc="-1" strike="noStrike">
              <a:solidFill>
                <a:srgbClr val="000000"/>
              </a:solidFill>
              <a:latin typeface="Century Gothic"/>
            </a:endParaRPr>
          </a:p>
        </p:txBody>
      </p:sp>
      <p:sp>
        <p:nvSpPr>
          <p:cNvPr id="53"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4"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uator Sharing and Integrated Control Demonstration for ITER</a:t>
            </a:r>
            <a:endParaRPr b="1" lang="en-US" sz="3600" spc="-1" strike="noStrike">
              <a:solidFill>
                <a:srgbClr val="000000"/>
              </a:solidFill>
              <a:latin typeface="Arial"/>
            </a:endParaRPr>
          </a:p>
        </p:txBody>
      </p:sp>
      <p:sp>
        <p:nvSpPr>
          <p:cNvPr id="99" name="PlaceHolder 2"/>
          <p:cNvSpPr>
            <a:spLocks noGrp="1"/>
          </p:cNvSpPr>
          <p:nvPr>
            <p:ph type="subTitle"/>
          </p:nvPr>
        </p:nvSpPr>
        <p:spPr>
          <a:xfrm>
            <a:off x="1371600" y="3885840"/>
            <a:ext cx="6400800" cy="1919160"/>
          </a:xfrm>
          <a:prstGeom prst="rect">
            <a:avLst/>
          </a:prstGeom>
          <a:noFill/>
          <a:ln w="0">
            <a:noFill/>
          </a:ln>
        </p:spPr>
        <p:txBody>
          <a:bodyPr anchor="t">
            <a:noAutofit/>
          </a:bodyPr>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J A Snipes</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ITER Organization</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E Kolemen</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Princeton Un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44000" y="980640"/>
            <a:ext cx="8783640" cy="5234040"/>
          </a:xfrm>
          <a:prstGeom prst="rect">
            <a:avLst/>
          </a:prstGeom>
          <a:noFill/>
          <a:ln w="0">
            <a:noFill/>
          </a:ln>
        </p:spPr>
        <p:txBody>
          <a:bodyPr anchor="t">
            <a:normAutofit/>
          </a:bodyPr>
          <a:p>
            <a:pPr marL="287280" indent="-28728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Motivation: </a:t>
            </a:r>
            <a:r>
              <a:rPr b="0" lang="en-US" sz="2000" spc="-1" strike="noStrike">
                <a:solidFill>
                  <a:srgbClr val="333399"/>
                </a:solidFill>
                <a:latin typeface="Times New Roman"/>
                <a:ea typeface="Times New Roman"/>
              </a:rPr>
              <a:t>ITER needs to define the Plasma Control System (PCS) architecture for the PCS Preliminary Design by the end of 2016.  Demonstrating the feasibility of shared actuator management and integrated control on existing devices would help make design choices for the ITER PCS architecture.</a:t>
            </a:r>
            <a:endParaRPr b="0" lang="en-US" sz="2000" spc="-1" strike="noStrike">
              <a:solidFill>
                <a:srgbClr val="000000"/>
              </a:solidFill>
              <a:latin typeface="Arial"/>
            </a:endParaRPr>
          </a:p>
          <a:p>
            <a:pPr marL="287280" indent="-28728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Goals: </a:t>
            </a:r>
            <a:r>
              <a:rPr b="0" lang="en-US" sz="2000" spc="-1" strike="noStrike">
                <a:solidFill>
                  <a:srgbClr val="333399"/>
                </a:solidFill>
                <a:latin typeface="Times New Roman"/>
                <a:ea typeface="Times New Roman"/>
              </a:rPr>
              <a:t>Demonstrate feasibility of shared actuator control with multiple simultaneous control schemes using the same actuator as well as integrated control of multiple actuators. </a:t>
            </a:r>
            <a:r>
              <a:rPr b="0" lang="en-GB" sz="2000" spc="-1" strike="noStrike">
                <a:solidFill>
                  <a:srgbClr val="333399"/>
                </a:solidFill>
                <a:latin typeface="Times New Roman"/>
                <a:ea typeface="Times New Roman"/>
              </a:rPr>
              <a:t>Can actuator management be performed before each controller in a supervisory way or must actuator management be performed between the controller and the actuator?  Experiments designed to test the advantages and disadvantages of these approaches for multiple control schemes would be valuable to determine the best approach for ITER.  </a:t>
            </a:r>
            <a:endParaRPr b="0" lang="en-US" sz="2000" spc="-1" strike="noStrike">
              <a:solidFill>
                <a:srgbClr val="000000"/>
              </a:solidFill>
              <a:latin typeface="Arial"/>
            </a:endParaRPr>
          </a:p>
          <a:p>
            <a:pPr marL="287280" indent="-28728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Plan of execution: </a:t>
            </a:r>
            <a:r>
              <a:rPr b="0" lang="en-GB" sz="2000" spc="-1" strike="noStrike">
                <a:solidFill>
                  <a:srgbClr val="333399"/>
                </a:solidFill>
                <a:latin typeface="Times New Roman"/>
                <a:ea typeface="Times New Roman"/>
              </a:rPr>
              <a:t>Possible shared actuator and integrated control schemes to be attempted on NSTX-U include: 1) ELM control (3D fields) + divertor detachment control (gas puffing) + core radiation control (central heating); 2) ELM control + EFC with 3D fields + rotation control and real-time kink resonance measurement through q ramp; 3) simultaneous control of </a:t>
            </a:r>
            <a:r>
              <a:rPr b="0" lang="el-GR" sz="2000" spc="-1" strike="noStrike">
                <a:solidFill>
                  <a:srgbClr val="333399"/>
                </a:solidFill>
                <a:latin typeface="Times New Roman"/>
                <a:ea typeface="Times New Roman"/>
              </a:rPr>
              <a:t>β</a:t>
            </a:r>
            <a:r>
              <a:rPr b="0" lang="en-GB" sz="2000" spc="-1" strike="noStrike" baseline="-25000">
                <a:solidFill>
                  <a:srgbClr val="333399"/>
                </a:solidFill>
                <a:latin typeface="Times New Roman"/>
                <a:ea typeface="Times New Roman"/>
              </a:rPr>
              <a:t>N</a:t>
            </a:r>
            <a:r>
              <a:rPr b="0" lang="en-GB" sz="2000" spc="-1" strike="noStrike">
                <a:solidFill>
                  <a:srgbClr val="333399"/>
                </a:solidFill>
                <a:latin typeface="Times New Roman"/>
                <a:ea typeface="Times New Roman"/>
              </a:rPr>
              <a:t>, the q profile, and plasma rotation with NBI.</a:t>
            </a:r>
            <a:endParaRPr b="0" lang="en-US" sz="2000" spc="-1" strike="noStrike">
              <a:solidFill>
                <a:srgbClr val="000000"/>
              </a:solidFill>
              <a:latin typeface="Arial"/>
            </a:endParaRPr>
          </a:p>
        </p:txBody>
      </p:sp>
      <p:sp>
        <p:nvSpPr>
          <p:cNvPr id="101" name="Rectangle 3"/>
          <p:cNvSpPr/>
          <p:nvPr/>
        </p:nvSpPr>
        <p:spPr>
          <a:xfrm>
            <a:off x="250920" y="44280"/>
            <a:ext cx="8569080" cy="79236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imes New Roman"/>
              </a:rPr>
              <a:t>Actuator Sharing and Integrated Control Demonstration for ITER</a:t>
            </a:r>
            <a:endParaRPr b="0" lang="en-US" sz="3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2560" y="595440"/>
            <a:ext cx="8785080" cy="5657760"/>
          </a:xfrm>
          <a:prstGeom prst="rect">
            <a:avLst/>
          </a:prstGeom>
          <a:noFill/>
          <a:ln w="0">
            <a:noFill/>
          </a:ln>
        </p:spPr>
        <p:txBody>
          <a:bodyPr anchor="t">
            <a:normAutofit/>
          </a:bodyPr>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MHD control and development of integrated control in MST1 on ASDEX Upgrade and TCV – S. Coda, F. Felici, C. Rapson</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Demonstrate integrated control of three or more among NTMs, sawteeth, ELMs, disruption mitigation and divertor detachment, using diagnostic observers + real-time modelling and assessing minimal necessary observer set</a:t>
            </a:r>
            <a:endParaRPr b="0" lang="en-US" sz="20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Sawteeth, NTMs: ECRH</a:t>
            </a:r>
            <a:endParaRPr b="0" lang="en-US" sz="20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ELMs: pellets, RMP, vertical kicks</a:t>
            </a:r>
            <a:endParaRPr b="0" lang="en-US" sz="20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Radiation: impurity injection</a:t>
            </a:r>
            <a:endParaRPr b="0" lang="en-US" sz="20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Shared actuator and integrated control proposal on DIII-D – D. Humphreys, E. Kolemen, E. Schuster</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combined q-profile control (NBI + ECH/ECCD), beta control (NBI + ECH/ECCD), and NTM suppression (ECCD repurposing, managed sharing, or as disturbance)</a:t>
            </a:r>
            <a:endParaRPr b="0" lang="en-US" sz="20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roposed NSTX-U shared actuator and integrated control experiments would provide good diversity with a range of actuators, repurposing, sharing, and integration</a:t>
            </a:r>
            <a:endParaRPr b="0" lang="en-US" sz="2400" spc="-1" strike="noStrike">
              <a:solidFill>
                <a:srgbClr val="000000"/>
              </a:solidFill>
              <a:latin typeface="Arial"/>
            </a:endParaRPr>
          </a:p>
        </p:txBody>
      </p:sp>
      <p:sp>
        <p:nvSpPr>
          <p:cNvPr id="103" name="Rectangle 3"/>
          <p:cNvSpPr/>
          <p:nvPr/>
        </p:nvSpPr>
        <p:spPr>
          <a:xfrm>
            <a:off x="250920" y="52560"/>
            <a:ext cx="8569080" cy="51588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imes New Roman"/>
              </a:rPr>
              <a:t>IOS ITPA Joint Plasma Control Experiments</a:t>
            </a:r>
            <a:endParaRPr b="0" lang="en-US" sz="30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06:07Z</dcterms:created>
  <dc:creator>J A Snipes</dc:creator>
  <dc:description/>
  <dc:language>en-US</dc:language>
  <cp:lastModifiedBy>Snipes Joseph</cp:lastModifiedBy>
  <dcterms:modified xsi:type="dcterms:W3CDTF">2015-02-23T21:46:22Z</dcterms:modified>
  <cp:revision>174</cp:revision>
  <dc:subject/>
  <dc:title>TBM Physics Effects on Plasma Operations</dc:title>
</cp:coreProperties>
</file>