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DB03-7DE9-4569-81A0-401B6254A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280" y="41644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B579-D835-4451-8BA7-B33EE6A69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256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08C5-29B7-4794-914A-9D1119184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150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78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2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150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78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D514-C81A-4BC7-940F-93BF765FF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30A7-EA67-4A01-85A1-E94AEBEC80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D312-56C7-4A35-9F1E-E57D344B4F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D810-C750-4FE7-B4AD-AE7BB3D43D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E610-D759-4C71-87AE-D5F441B9EA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9DD2-38AA-41AC-A46C-65CE384FF5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BAE0-A1F7-4B8E-ABA9-F77B8848B3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46D7-D48A-46A6-82DF-D36B8F1AC3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9787-58A4-48C4-878A-BEA98564A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256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3BD51-5509-4A25-BE1E-31BF1F2BC2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3DBE-8EE0-46DA-94B2-FA3C98D700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280" y="41644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9EA3-1708-45A1-9F58-C3872540F0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256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8C850-0161-4882-9554-664A0B73C5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150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78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2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150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78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6579-57DA-4161-85D3-BE3FBE98A3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856-EDC3-4C3E-8809-EED1EFA9A2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A2F-80CE-4399-9C31-A72CCE29EE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8B8-D60D-4A9A-81D8-D0AEF6C7EF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C11-9217-4AEC-ACA8-4BD0F5AF08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1D1-1034-47A7-A570-DDDFE23268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F162-9882-468D-87C6-98B7138D2D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333-018F-46E7-9540-F90AE90CD5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C6D-83A4-4924-AAB4-B5C1763746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4256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673-F895-41C4-8BFA-5A9251D658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81E-60C1-497D-B00C-D6FCBAF982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52280" y="41644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9BA-0F53-4D4D-8508-F774423A65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4256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D8B-6E5C-47EB-8483-1DD5B13892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150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78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522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150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78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E9F-3F1D-4B8C-9EC9-0B458379AE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726C8-F2FA-480F-8722-9A4709FE99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91933-4040-4304-ABA2-12281C37B7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43E02-DC30-42F5-BC52-2DA8AF0B1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99DA-1020-4CE4-8115-0EA9FFF665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C7669-8BE0-4ABC-92B0-2A9EA507CE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02D72-A434-4EDE-8476-E3DD248CAC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6E63A-C1BF-4832-A7E0-8CD0BEB174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75B68-E4F4-40E6-8D2A-5ECC321567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256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99524-EE98-41BA-BBE8-6B1DD142E7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FF826-ED84-425C-A559-8B83A5EB08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280" y="41644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6611C-DC03-4F40-AFCE-CC25DD2D65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256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108BD-4FA9-4C69-A7A3-C2B914C49B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150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78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2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150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78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11D26-35DD-41BE-B727-C839ED37CDA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9910A-C58E-4BD8-9F3B-1F484403E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14E9-EE99-4758-9970-76653C84F9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FE4E3-C1F2-4ED6-8C94-4726A5F927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6C0F0-9380-4273-AFFA-3DE3B5368A3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74B7F-6C2E-457B-A367-1135FBF419F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5F682-9F03-49F1-A482-8118E72849D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CC21C-1D41-4D80-AA1D-4F42F4AA16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BD57A-68BB-4FBF-87AF-C99B93ABA13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256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0A923-0048-4A77-9303-D1D01823DF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0CBF4-89C3-4E30-8648-C9B2605DB6C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52280" y="41644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2E8FF-FE9C-449F-8215-CB4827E5BD7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256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C9041-8C13-46AB-B9E2-75ED9FAA7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00E2-AE43-4795-A743-FDAD25F8C2E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50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778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522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150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778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DDB09-13E2-4475-A340-025C859AC95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52B8-781D-413F-A3B4-66A86FDF0FC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56BD-D886-4DCF-B1DF-E6D80C1BF3F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D9C9-9B12-4D98-B195-2BF7865D46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8897-9BB3-4AFB-B94F-8D9C583967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0CB7-8108-408F-B11E-540DEC16C28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6BD8-52D8-469B-AB26-9B42B7CB79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52B1-607D-4502-A72D-6FAC6FEEF3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4256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EB4D-3265-4B3D-978B-931F1BB2816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B8E7-94EA-4239-BFCE-A581AB26C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14EC-B4EF-4574-A49A-462B0E1ECF0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52280" y="41644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29E2-8D70-414A-B61C-8AB0946CE8F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4256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F207-E256-4FAD-9D60-912C70AE6A7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150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77880" y="121896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522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150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77880" y="41644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F4CC-4E6C-4537-BA95-B98482E1E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2560" y="41644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B70E-CAD4-4DF2-869A-5A306E9B6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121896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41644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4AA2-995C-4A12-A3EE-172AA68F2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2cb"/>
                </a:solidFill>
                <a:latin typeface="Arial Bold"/>
              </a:rPr>
              <a:t>Click to edit the title text format</a:t>
            </a:r>
            <a:endParaRPr b="0" lang="en-US" sz="2400" spc="-1" strike="noStrike">
              <a:solidFill>
                <a:srgbClr val="3332cb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85840">
              <a:spcBef>
                <a:spcPts val="601"/>
              </a:spcBef>
              <a:buClr>
                <a:srgbClr val="3332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8600">
              <a:spcBef>
                <a:spcPts val="601"/>
              </a:spcBef>
              <a:buClr>
                <a:srgbClr val="fb0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228600">
              <a:spcBef>
                <a:spcPts val="601"/>
              </a:spcBef>
              <a:buClr>
                <a:srgbClr val="1398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78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78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78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926560" y="6578640"/>
            <a:ext cx="21744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2cb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1CFE-0314-41AE-8A88-4A3207B23832}" type="slidenum">
              <a:rPr b="0" lang="en-US" sz="900" spc="-1" strike="noStrike">
                <a:solidFill>
                  <a:srgbClr val="3332cb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 Bold"/>
              </a:rPr>
              <a:t>Click to edit the title text format</a:t>
            </a: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fb0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3" marL="1589040" indent="-228600">
              <a:spcBef>
                <a:spcPts val="601"/>
              </a:spcBef>
              <a:buClr>
                <a:srgbClr val="1398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4" marL="2046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5" marL="2046240" indent="-228600">
              <a:spcBef>
                <a:spcPts val="601"/>
              </a:spcBef>
              <a:buClr>
                <a:srgbClr val="1821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6" marL="2046240" indent="-228600">
              <a:spcBef>
                <a:spcPts val="601"/>
              </a:spcBef>
              <a:buClr>
                <a:srgbClr val="1821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640360" y="6590880"/>
            <a:ext cx="243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2cb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844A-9898-4F35-A9D4-0879DD086453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0000" y="6635880"/>
            <a:ext cx="812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6629400"/>
            <a:ext cx="5499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2cb"/>
                </a:solidFill>
                <a:latin typeface="Arial"/>
                <a:ea typeface="Arial"/>
              </a:rPr>
              <a:t>December 2014 NSTX-U Team Meeting – Program/Menard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2cb"/>
                </a:solidFill>
                <a:latin typeface="Arial Bold"/>
              </a:rPr>
              <a:t>Click to edit the title text format</a:t>
            </a:r>
            <a:endParaRPr b="0" lang="en-US" sz="2400" spc="-1" strike="noStrike">
              <a:solidFill>
                <a:srgbClr val="3332cb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85840">
              <a:spcBef>
                <a:spcPts val="601"/>
              </a:spcBef>
              <a:buClr>
                <a:srgbClr val="3332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8600">
              <a:spcBef>
                <a:spcPts val="601"/>
              </a:spcBef>
              <a:buClr>
                <a:srgbClr val="fb0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228600">
              <a:spcBef>
                <a:spcPts val="601"/>
              </a:spcBef>
              <a:buClr>
                <a:srgbClr val="1398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78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78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78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8926560" y="6578640"/>
            <a:ext cx="21744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2cb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50D5-5C6A-41A1-9E98-1808BEC046B8}" type="slidenum">
              <a:rPr b="0" lang="en-US" sz="900" spc="-1" strike="noStrike">
                <a:solidFill>
                  <a:srgbClr val="3332cb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6635880"/>
            <a:ext cx="812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6629400"/>
            <a:ext cx="5499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2cb"/>
                </a:solidFill>
                <a:latin typeface="Arial"/>
                <a:ea typeface="Arial"/>
              </a:rPr>
              <a:t>December 2014 NSTX-U Team Meeting – Program/Menard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2cb"/>
                </a:solidFill>
                <a:latin typeface="Arial Bold"/>
              </a:rPr>
              <a:t>Click to edit the title text format</a:t>
            </a:r>
            <a:endParaRPr b="0" lang="en-US" sz="2400" spc="-1" strike="noStrike">
              <a:solidFill>
                <a:srgbClr val="3332cb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85840">
              <a:spcBef>
                <a:spcPts val="601"/>
              </a:spcBef>
              <a:buClr>
                <a:srgbClr val="3332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8600">
              <a:spcBef>
                <a:spcPts val="601"/>
              </a:spcBef>
              <a:buClr>
                <a:srgbClr val="fb0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228600">
              <a:spcBef>
                <a:spcPts val="601"/>
              </a:spcBef>
              <a:buClr>
                <a:srgbClr val="1398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78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78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78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8926560" y="6578640"/>
            <a:ext cx="21744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2cb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EC49-5503-449C-A572-B33BBDBA7DB1}" type="slidenum">
              <a:rPr b="0" lang="en-US" sz="900" spc="-1" strike="noStrike">
                <a:solidFill>
                  <a:srgbClr val="3332cb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0000" y="6635880"/>
            <a:ext cx="812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6629400"/>
            <a:ext cx="5499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2cb"/>
                </a:solidFill>
                <a:latin typeface="Arial"/>
                <a:ea typeface="Arial"/>
              </a:rPr>
              <a:t>December 2014 NSTX-U Team Meeting – Program/Menard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2cb"/>
                </a:solidFill>
                <a:latin typeface="Arial Bold"/>
              </a:rPr>
              <a:t>Click to edit the title text format</a:t>
            </a:r>
            <a:endParaRPr b="0" lang="en-US" sz="2400" spc="-1" strike="noStrike">
              <a:solidFill>
                <a:srgbClr val="3332cb"/>
              </a:solidFill>
              <a:latin typeface="Arial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Num" idx="5"/>
          </p:nvPr>
        </p:nvSpPr>
        <p:spPr>
          <a:xfrm>
            <a:off x="8926560" y="6578640"/>
            <a:ext cx="21744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2cb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8C19-DEC7-4C34-A1B9-A20B9C0BDE35}" type="slidenum">
              <a:rPr b="0" lang="en-US" sz="900" spc="-1" strike="noStrike">
                <a:solidFill>
                  <a:srgbClr val="3332cb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 rot="21120000"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 rot="21120000"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Pre-forum 2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 Bold"/>
              </a:rPr>
              <a:t>Click to edit the title text format</a:t>
            </a: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fb01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3" marL="1589040" indent="-228600">
              <a:spcBef>
                <a:spcPts val="601"/>
              </a:spcBef>
              <a:buClr>
                <a:srgbClr val="1398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4" marL="2046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5" marL="2046240" indent="-228600">
              <a:spcBef>
                <a:spcPts val="601"/>
              </a:spcBef>
              <a:buClr>
                <a:srgbClr val="1821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6" marL="2046240" indent="-228600">
              <a:spcBef>
                <a:spcPts val="601"/>
              </a:spcBef>
              <a:buClr>
                <a:srgbClr val="1821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6"/>
          </p:nvPr>
        </p:nvSpPr>
        <p:spPr>
          <a:xfrm>
            <a:off x="8640360" y="6590880"/>
            <a:ext cx="243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2cb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9DC2-7823-45CA-A17D-2ED427D15298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3240">
            <a:solidFill>
              <a:srgbClr val="fb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3240">
            <a:solidFill>
              <a:srgbClr val="fb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"/>
          <p:cNvSpPr/>
          <p:nvPr/>
        </p:nvSpPr>
        <p:spPr>
          <a:xfrm>
            <a:off x="139680" y="1211400"/>
            <a:ext cx="885204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32cc"/>
                </a:solidFill>
                <a:latin typeface="Arial"/>
                <a:ea typeface="Arial"/>
              </a:rPr>
              <a:t>NSTX-U Pedestal Structure &amp; Control TS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2057400"/>
            <a:ext cx="6032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 Diallo, R. Maingi, D. Smit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3352680"/>
            <a:ext cx="572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0106"/>
                </a:solidFill>
                <a:latin typeface="Arial"/>
                <a:ea typeface="Arial"/>
              </a:rPr>
              <a:t>NSTX-U Pedestal NSTX-U Forum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0106"/>
                </a:solidFill>
                <a:latin typeface="Arial"/>
                <a:ea typeface="Arial"/>
              </a:rPr>
              <a:t>February 24, 2015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8395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109440"/>
            <a:ext cx="1917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"/>
          <p:cNvSpPr/>
          <p:nvPr/>
        </p:nvSpPr>
        <p:spPr>
          <a:xfrm>
            <a:off x="3645000" y="289080"/>
            <a:ext cx="1549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2cb"/>
                </a:solidFill>
                <a:latin typeface="Arial"/>
                <a:ea typeface="Arial"/>
              </a:rPr>
              <a:t>Supported by  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3240">
            <a:solidFill>
              <a:srgbClr val="fd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696080" y="2286000"/>
            <a:ext cx="1295640" cy="4419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"/>
          <p:cNvSpPr/>
          <p:nvPr/>
        </p:nvSpPr>
        <p:spPr>
          <a:xfrm>
            <a:off x="7696080" y="2921040"/>
            <a:ext cx="130824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Culham Sci Ctr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York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Chubu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Fukui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Hiroshima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Hyogo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Kyoto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Kyushu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Kyushu Tokai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NIFS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Niigata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U Tokyo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JAEA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b0106"/>
                </a:solidFill>
                <a:latin typeface="Arial"/>
                <a:ea typeface="Arial"/>
              </a:rPr>
              <a:t>Inst for Nucl Res, Kiev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Ioffe Inst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TRINITI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Chonbuk Natl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NFRI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KAIST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POSTECH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Seoul Natl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ASIPP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CIEMAT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FOM Inst DIFFER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ENEA, Frascati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CEA, Cadarache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IPP, Jülich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IPP, Garchin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ASCR, Czech Rep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3240">
            <a:solidFill>
              <a:srgbClr val="fd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4237200" y="4495680"/>
            <a:ext cx="3078000" cy="2210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152280" y="2057400"/>
            <a:ext cx="1295640" cy="4648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52280" y="2057400"/>
            <a:ext cx="127008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Coll of Wm &amp; Mary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Columbia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CompX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General Atomics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FI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INL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Johns Hopkins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LANL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LLNL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Lodestar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MIT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Lehigh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Nova Photonics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Old Dominion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ORNL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PPPL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Princeton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Purdue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SNL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Think Tank, Inc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C Davis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C Irvine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CLA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CSD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Colorado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Illinois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Maryland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Rochester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Tennessee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Tulsa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Washington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Wisconsin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X Science LLC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1763640" y="4343400"/>
            <a:ext cx="2274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1DCF-2C7C-426F-BD1C-B01C93D890E4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D83F-820E-4A94-93B1-0C9A12C06B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e"/>
                </a:solidFill>
                <a:latin typeface="Arial Bold"/>
              </a:rPr>
              <a:t>NSTX-U PED research topics for FY 15 (I)</a:t>
            </a:r>
            <a:br>
              <a:rPr sz="2200"/>
            </a:br>
            <a:r>
              <a:rPr b="0" lang="en-US" sz="2200" spc="-1" strike="noStrike">
                <a:solidFill>
                  <a:srgbClr val="0000fe"/>
                </a:solidFill>
                <a:latin typeface="Arial Bold"/>
              </a:rPr>
              <a:t>Early in the run </a:t>
            </a:r>
            <a:endParaRPr b="0" lang="en-US" sz="2200" spc="-1" strike="noStrike">
              <a:solidFill>
                <a:srgbClr val="0000fe"/>
              </a:solidFill>
              <a:latin typeface="Arial Bold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-343440" y="1472760"/>
            <a:ext cx="875052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1000"/>
          </a:bodyPr>
          <a:p>
            <a:pPr marL="348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21cd"/>
              </a:solidFill>
              <a:latin typeface="Arial"/>
            </a:endParaRPr>
          </a:p>
          <a:p>
            <a:pPr lvl="1" marL="712080" indent="-25992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SzPct val="13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</a:rPr>
              <a:t>H-mode access and power threshold (L-H transition physics with T&amp;T)</a:t>
            </a:r>
            <a:endParaRPr b="0" lang="en-US" sz="1600" spc="-1" strike="noStrike">
              <a:solidFill>
                <a:srgbClr val="0000fe"/>
              </a:solidFill>
              <a:latin typeface="Arial"/>
            </a:endParaRPr>
          </a:p>
          <a:p>
            <a:pPr lvl="2" marL="1076040" indent="-20772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SzPct val="13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0106"/>
                </a:solidFill>
                <a:latin typeface="Arial"/>
              </a:rPr>
              <a:t>Explore H-mode access, variation with Rtan</a:t>
            </a:r>
            <a:endParaRPr b="0" lang="en-US" sz="1600" spc="-1" strike="noStrike">
              <a:solidFill>
                <a:srgbClr val="fb0106"/>
              </a:solidFill>
              <a:latin typeface="Arial"/>
            </a:endParaRPr>
          </a:p>
          <a:p>
            <a:pPr lvl="2" marL="1076040" indent="-20772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SzPct val="13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0106"/>
                </a:solidFill>
                <a:latin typeface="Arial"/>
              </a:rPr>
              <a:t>Measure L-H threshold dependencies (power, Rtan, etc...)</a:t>
            </a:r>
            <a:endParaRPr b="0" lang="en-US" sz="1600" spc="-1" strike="noStrike">
              <a:solidFill>
                <a:srgbClr val="fb0106"/>
              </a:solidFill>
              <a:latin typeface="Arial"/>
            </a:endParaRPr>
          </a:p>
          <a:p>
            <a:pPr lvl="1" marL="712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e"/>
              </a:solidFill>
              <a:latin typeface="Arial"/>
            </a:endParaRPr>
          </a:p>
          <a:p>
            <a:pPr lvl="1" marL="712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e"/>
              </a:solidFill>
              <a:latin typeface="Arial"/>
            </a:endParaRPr>
          </a:p>
          <a:p>
            <a:pPr lvl="1" marL="712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e"/>
              </a:solidFill>
              <a:latin typeface="Arial"/>
            </a:endParaRPr>
          </a:p>
          <a:p>
            <a:pPr lvl="1" marL="712080" indent="-25992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</a:rPr>
              <a:t>Characterize the H-Mode pedestal structure at increased BT, Ip, and NBI heating power, -- </a:t>
            </a:r>
            <a:r>
              <a:rPr b="0" lang="en-US" sz="1600" spc="-1" strike="noStrike">
                <a:solidFill>
                  <a:srgbClr val="0000fe"/>
                </a:solidFill>
                <a:latin typeface="Arial Bold"/>
                <a:ea typeface="Arial Bold"/>
              </a:rPr>
              <a:t>R15-1</a:t>
            </a:r>
            <a:r>
              <a:rPr b="0" lang="en-US" sz="1600" spc="-1" strike="noStrike">
                <a:solidFill>
                  <a:srgbClr val="0000fe"/>
                </a:solidFill>
                <a:latin typeface="Arial"/>
              </a:rPr>
              <a:t>-- and </a:t>
            </a:r>
            <a:r>
              <a:rPr b="0" lang="en-US" sz="1600" spc="-1" strike="noStrike" u="sng">
                <a:solidFill>
                  <a:srgbClr val="0000fe"/>
                </a:solidFill>
                <a:uFillTx/>
                <a:latin typeface="Arial"/>
              </a:rPr>
              <a:t>shaping (triangularity, DN vs LSN vs USN) may require dedicated time beyond R15-1</a:t>
            </a:r>
            <a:endParaRPr b="0" lang="en-US" sz="1600" spc="-1" strike="noStrike">
              <a:solidFill>
                <a:srgbClr val="0000fe"/>
              </a:solidFill>
              <a:latin typeface="Arial"/>
            </a:endParaRPr>
          </a:p>
          <a:p>
            <a:pPr lvl="2" marL="1076040" indent="-20772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0106"/>
                </a:solidFill>
                <a:latin typeface="Arial"/>
              </a:rPr>
              <a:t>Map out the stability diagram for three Ip and 2 shaping parameters</a:t>
            </a:r>
            <a:endParaRPr b="0" lang="en-US" sz="1600" spc="-1" strike="noStrike">
              <a:solidFill>
                <a:srgbClr val="fb0106"/>
              </a:solidFill>
              <a:latin typeface="Arial"/>
            </a:endParaRPr>
          </a:p>
          <a:p>
            <a:pPr lvl="2" marL="1076040" indent="-20772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0106"/>
                </a:solidFill>
                <a:latin typeface="Arial"/>
              </a:rPr>
              <a:t>Determine the pedestal scaling with beta_pol </a:t>
            </a:r>
            <a:endParaRPr b="0" lang="en-US" sz="1600" spc="-1" strike="noStrike">
              <a:solidFill>
                <a:srgbClr val="fb0106"/>
              </a:solidFill>
              <a:latin typeface="Arial"/>
            </a:endParaRPr>
          </a:p>
          <a:p>
            <a:pPr lvl="2" marL="1076040" indent="-20772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0106"/>
                </a:solidFill>
                <a:latin typeface="Arial"/>
              </a:rPr>
              <a:t>Pedestal structure and evolution after L-H transition and between ELMs</a:t>
            </a:r>
            <a:endParaRPr b="0" lang="en-US" sz="1600" spc="-1" strike="noStrike">
              <a:solidFill>
                <a:srgbClr val="fb0106"/>
              </a:solidFill>
              <a:latin typeface="Arial"/>
            </a:endParaRPr>
          </a:p>
          <a:p>
            <a:pPr lvl="2" marL="1076040" indent="-20772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0106"/>
                </a:solidFill>
                <a:latin typeface="Arial"/>
              </a:rPr>
              <a:t>Turbulence characterization to understand the pedestal dynamics</a:t>
            </a:r>
            <a:endParaRPr b="0" lang="en-US" sz="1600" spc="-1" strike="noStrike">
              <a:solidFill>
                <a:srgbClr val="fb0106"/>
              </a:solidFill>
              <a:latin typeface="Arial"/>
            </a:endParaRPr>
          </a:p>
          <a:p>
            <a:pPr lvl="2" marL="1076040" indent="-20772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0106"/>
                </a:solidFill>
                <a:latin typeface="Arial"/>
              </a:rPr>
              <a:t>Generate database for testing EPED on ST and for gyrokinetic codes</a:t>
            </a:r>
            <a:endParaRPr b="0" lang="en-US" sz="1600" spc="-1" strike="noStrike">
              <a:solidFill>
                <a:srgbClr val="fb0106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C10C-B129-42D0-9636-B669544FDC95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"/>
          <p:cNvSpPr/>
          <p:nvPr/>
        </p:nvSpPr>
        <p:spPr>
          <a:xfrm>
            <a:off x="8344080" y="1828800"/>
            <a:ext cx="571320" cy="3835440"/>
          </a:xfrm>
          <a:prstGeom prst="rect">
            <a:avLst/>
          </a:prstGeom>
          <a:solidFill>
            <a:srgbClr val="7f007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091640" y="3420000"/>
            <a:ext cx="2994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efe"/>
                </a:solidFill>
                <a:latin typeface="Arial"/>
                <a:ea typeface="Arial"/>
              </a:rPr>
              <a:t>To be performed in boronized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efe"/>
                </a:solidFill>
                <a:latin typeface="Arial"/>
                <a:ea typeface="Arial"/>
              </a:rPr>
              <a:t>and lithiated wal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02FC-B202-498F-B1FA-C328966678E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e"/>
                </a:solidFill>
                <a:latin typeface="Arial Bold"/>
              </a:rPr>
              <a:t>NSTX-U PED research topics for FY 15 (II)</a:t>
            </a:r>
            <a:br>
              <a:rPr sz="2200"/>
            </a:br>
            <a:r>
              <a:rPr b="0" lang="en-US" sz="2200" spc="-1" strike="noStrike">
                <a:solidFill>
                  <a:srgbClr val="0000fe"/>
                </a:solidFill>
                <a:latin typeface="Arial Bold"/>
              </a:rPr>
              <a:t>Early in the run </a:t>
            </a:r>
            <a:endParaRPr b="0" lang="en-US" sz="2200" spc="-1" strike="noStrike">
              <a:solidFill>
                <a:srgbClr val="0000fe"/>
              </a:solidFill>
              <a:latin typeface="Arial Bold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80880" y="1473120"/>
            <a:ext cx="8991360" cy="4686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e"/>
                </a:solidFill>
                <a:latin typeface="Arial"/>
              </a:rPr>
              <a:t>Identifying common characteristics in the phenomenology of different ELM types (DivSol &amp; MP)</a:t>
            </a:r>
            <a:endParaRPr b="0" lang="en-US" sz="1700" spc="-1" strike="noStrike">
              <a:solidFill>
                <a:srgbClr val="0000fe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b0106"/>
                </a:solidFill>
                <a:latin typeface="Arial"/>
              </a:rPr>
              <a:t>RMP impact on the pedestal stability</a:t>
            </a:r>
            <a:endParaRPr b="0" lang="en-US" sz="1700" spc="-1" strike="noStrike">
              <a:solidFill>
                <a:srgbClr val="fb0106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b0106"/>
                </a:solidFill>
                <a:latin typeface="Arial"/>
              </a:rPr>
              <a:t>Effect of (Boron)-Granule-Injection for increasing the ELM frequency</a:t>
            </a:r>
            <a:endParaRPr b="0" lang="en-US" sz="1700" spc="-1" strike="noStrike">
              <a:solidFill>
                <a:srgbClr val="fb0106"/>
              </a:solidFill>
              <a:latin typeface="Arial"/>
            </a:endParaRPr>
          </a:p>
          <a:p>
            <a:pPr lvl="2" marL="1182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b0106"/>
              </a:solidFill>
              <a:latin typeface="Arial"/>
            </a:endParaRPr>
          </a:p>
          <a:p>
            <a:pPr lvl="2" marL="1182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b0106"/>
              </a:solidFill>
              <a:latin typeface="Arial"/>
            </a:endParaRPr>
          </a:p>
          <a:p>
            <a:pPr lvl="2" marL="1182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b0106"/>
              </a:solidFill>
              <a:latin typeface="Arial"/>
            </a:endParaRPr>
          </a:p>
          <a:p>
            <a:pPr lvl="2" marL="1182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b010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e"/>
                </a:solidFill>
                <a:latin typeface="Arial"/>
              </a:rPr>
              <a:t>Exploit the transition from Boronized PFCs to lithium coatings</a:t>
            </a:r>
            <a:endParaRPr b="0" lang="en-US" sz="1700" spc="-1" strike="noStrike">
              <a:solidFill>
                <a:srgbClr val="0000fe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b0106"/>
                </a:solidFill>
                <a:latin typeface="Arial"/>
              </a:rPr>
              <a:t>Compare intrinsic and triggered ELMy-H mode in Boron vs Li</a:t>
            </a:r>
            <a:endParaRPr b="0" lang="en-US" sz="1700" spc="-1" strike="noStrike">
              <a:solidFill>
                <a:srgbClr val="fb0106"/>
              </a:solidFill>
              <a:latin typeface="Arial"/>
            </a:endParaRPr>
          </a:p>
          <a:p>
            <a:pPr lvl="3" marL="1639800" indent="-228600">
              <a:lnSpc>
                <a:spcPct val="100000"/>
              </a:lnSpc>
              <a:spcBef>
                <a:spcPts val="400"/>
              </a:spcBef>
              <a:buClr>
                <a:srgbClr val="1398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39899"/>
                </a:solidFill>
                <a:latin typeface="Arial"/>
              </a:rPr>
              <a:t>Document transition from ELMy-ELM-free transition and then scan in Li ELM-free </a:t>
            </a:r>
            <a:endParaRPr b="0" lang="en-US" sz="1700" spc="-1" strike="noStrike">
              <a:solidFill>
                <a:srgbClr val="139899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b0106"/>
                </a:solidFill>
                <a:latin typeface="Arial"/>
              </a:rPr>
              <a:t>Document the pedestal structure impact during the transition Boron to Li</a:t>
            </a:r>
            <a:endParaRPr b="0" lang="en-US" sz="1700" spc="-1" strike="noStrike">
              <a:solidFill>
                <a:srgbClr val="fb0106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09D9-DCA8-40B2-9305-ACB2B2BDDD50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"/>
          <p:cNvSpPr/>
          <p:nvPr/>
        </p:nvSpPr>
        <p:spPr>
          <a:xfrm>
            <a:off x="8508960" y="1308240"/>
            <a:ext cx="520920" cy="2806560"/>
          </a:xfrm>
          <a:prstGeom prst="rect">
            <a:avLst/>
          </a:prstGeom>
          <a:solidFill>
            <a:srgbClr val="7f007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7354800" y="245268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efe"/>
                </a:solidFill>
                <a:latin typeface="Arial"/>
                <a:ea typeface="Arial"/>
              </a:rPr>
              <a:t>To be performed in boronized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efe"/>
                </a:solidFill>
                <a:latin typeface="Arial"/>
                <a:ea typeface="Arial"/>
              </a:rPr>
              <a:t>and lithiated wal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D08D-A2B7-4CDD-8847-C792343EB7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 Bold"/>
              </a:rPr>
              <a:t>NSTX-U PED research topics for FY 15 </a:t>
            </a:r>
            <a:r>
              <a:rPr b="0" lang="en-US" sz="2400" spc="-1" strike="noStrike" u="sng">
                <a:solidFill>
                  <a:srgbClr val="0000fe"/>
                </a:solidFill>
                <a:uFillTx/>
                <a:latin typeface="Arial Bold"/>
              </a:rPr>
              <a:t> Mid-late run</a:t>
            </a: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1520" y="1676520"/>
            <a:ext cx="9144000" cy="414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5000"/>
          </a:bodyPr>
          <a:p>
            <a:pPr marL="363240" indent="-3258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1cd"/>
                </a:solidFill>
                <a:latin typeface="Arial"/>
              </a:rPr>
              <a:t>Refine pedestal characterization with low triangularity discharges</a:t>
            </a:r>
            <a:endParaRPr b="0" lang="en-US" sz="2000" spc="-1" strike="noStrike">
              <a:solidFill>
                <a:srgbClr val="1821cd"/>
              </a:solidFill>
              <a:latin typeface="Arial"/>
            </a:endParaRPr>
          </a:p>
          <a:p>
            <a:pPr lvl="1" marL="743400" indent="-2714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e"/>
                </a:solidFill>
                <a:latin typeface="Arial"/>
              </a:rPr>
              <a:t>Attempt the access the ballooning side of the stability diagram</a:t>
            </a:r>
            <a:endParaRPr b="0" lang="en-US" sz="2000" spc="-1" strike="noStrike">
              <a:solidFill>
                <a:srgbClr val="0000fe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1cd"/>
                </a:solidFill>
                <a:latin typeface="Arial"/>
              </a:rPr>
              <a:t>Investigate/characterize ELM-free regimes such EPH mode, I-mode, etc...</a:t>
            </a:r>
            <a:endParaRPr b="0" lang="en-US" sz="2000" spc="-1" strike="noStrike">
              <a:solidFill>
                <a:srgbClr val="1821cd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1cd"/>
                </a:solidFill>
                <a:latin typeface="Arial"/>
              </a:rPr>
              <a:t>Pedestal destabilization physics using LGI in ELM-free regimes</a:t>
            </a:r>
            <a:endParaRPr b="0" lang="en-US" sz="2000" spc="-1" strike="noStrike">
              <a:solidFill>
                <a:srgbClr val="1821cd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1cd"/>
                </a:solidFill>
                <a:latin typeface="Arial"/>
              </a:rPr>
              <a:t>Snowflake impact on the pedestal stability </a:t>
            </a:r>
            <a:endParaRPr b="0" lang="en-US" sz="2000" spc="-1" strike="noStrike">
              <a:solidFill>
                <a:srgbClr val="1821cd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1cd"/>
                </a:solidFill>
                <a:latin typeface="Arial"/>
              </a:rPr>
              <a:t>Develop optimum discharges for simulation-experiment comparison in pedestal region</a:t>
            </a:r>
            <a:endParaRPr b="0" lang="en-US" sz="2000" spc="-1" strike="noStrike">
              <a:solidFill>
                <a:srgbClr val="1821cd"/>
              </a:solidFill>
              <a:latin typeface="Arial"/>
            </a:endParaRPr>
          </a:p>
          <a:p>
            <a:pPr lvl="1" marL="743400" indent="-2714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SzPct val="3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e"/>
                </a:solidFill>
                <a:latin typeface="Arial"/>
              </a:rPr>
              <a:t>Discuss with theory team for adequate discharges for simulations</a:t>
            </a:r>
            <a:endParaRPr b="0" lang="en-US" sz="1800" spc="-1" strike="noStrike">
              <a:solidFill>
                <a:srgbClr val="0000fe"/>
              </a:solidFill>
              <a:latin typeface="Arial"/>
            </a:endParaRPr>
          </a:p>
          <a:p>
            <a:pPr lvl="1" marL="743400" indent="-2714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SzPct val="3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e"/>
                </a:solidFill>
                <a:latin typeface="Arial"/>
              </a:rPr>
              <a:t>Optimize cross-diagnostics (BES, GPI, reflectometry, and probes) in the edge region</a:t>
            </a:r>
            <a:endParaRPr b="0" lang="en-US" sz="1800" spc="-1" strike="noStrike">
              <a:solidFill>
                <a:srgbClr val="0000fe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SzPct val="3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1cd"/>
                </a:solidFill>
                <a:latin typeface="Arial"/>
              </a:rPr>
              <a:t>Transition from lithiated to boronized walls (with MP)</a:t>
            </a:r>
            <a:endParaRPr b="0" lang="en-US" sz="2000" spc="-1" strike="noStrike">
              <a:solidFill>
                <a:srgbClr val="1821cd"/>
              </a:solidFill>
              <a:latin typeface="Arial"/>
            </a:endParaRPr>
          </a:p>
          <a:p>
            <a:pPr lvl="1" marL="743400" indent="-2714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SzPct val="3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e"/>
                </a:solidFill>
                <a:latin typeface="Arial"/>
              </a:rPr>
              <a:t>Impact on pedestal structure/evolution and ELM characteristics (hysterisis study)</a:t>
            </a:r>
            <a:endParaRPr b="0" lang="en-US" sz="1800" spc="-1" strike="noStrike">
              <a:solidFill>
                <a:srgbClr val="0000fe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88F0-0196-427B-921E-8E534347DA13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0713-6126-4215-A30E-E231E1C67A3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6146280" y="2349360"/>
            <a:ext cx="2870280" cy="2146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97000" indent="-2574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21cd"/>
                </a:solidFill>
                <a:latin typeface="Arial"/>
              </a:rPr>
              <a:t>Proposals address most of the key topics of PED -TSG</a:t>
            </a:r>
            <a:endParaRPr b="0" lang="en-US" sz="1800" spc="-1" strike="noStrike">
              <a:solidFill>
                <a:srgbClr val="1821cd"/>
              </a:solidFill>
              <a:latin typeface="Arial"/>
            </a:endParaRPr>
          </a:p>
          <a:p>
            <a:pPr lvl="1" marL="754200" indent="-25740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e"/>
                </a:solidFill>
                <a:latin typeface="Arial"/>
              </a:rPr>
              <a:t>rearranged in four groups </a:t>
            </a:r>
            <a:endParaRPr b="0" lang="en-US" sz="1800" spc="-1" strike="noStrike">
              <a:solidFill>
                <a:srgbClr val="0000fe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4DDD-797C-4EF2-B6F7-F85C2519B584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rcRect l="5719" t="3789" r="37911" b="48738"/>
          <a:stretch/>
        </p:blipFill>
        <p:spPr>
          <a:xfrm>
            <a:off x="-155520" y="-3240"/>
            <a:ext cx="5979960" cy="65185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5105520" y="-254520"/>
            <a:ext cx="4101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e"/>
                </a:solidFill>
                <a:latin typeface="Arial Bold"/>
              </a:rPr>
              <a:t>Ped-TSG collected 21 proposals</a:t>
            </a:r>
            <a:endParaRPr b="0" lang="en-US" sz="21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4F10-90BB-4EA8-8E57-1F9E67CA297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F02F-4551-4AC4-B23C-D7217AF21200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-216000"/>
            <a:ext cx="9131400" cy="127008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5840" y="4680"/>
          <a:ext cx="9144000" cy="6603840"/>
        </p:xfrm>
        <a:graphic>
          <a:graphicData uri="http://schemas.openxmlformats.org/drawingml/2006/table">
            <a:tbl>
              <a:tblPr/>
              <a:tblGrid>
                <a:gridCol w="4821840"/>
                <a:gridCol w="885600"/>
                <a:gridCol w="2450880"/>
                <a:gridCol w="985680"/>
              </a:tblGrid>
              <a:tr h="33012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e6e5e5"/>
                          </a:solidFill>
                          <a:latin typeface="Arial Bold"/>
                          <a:ea typeface="Arial Bold"/>
                        </a:rPr>
                        <a:t>Title of proposal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efefe"/>
                          </a:solidFill>
                          <a:latin typeface="Arial Bold"/>
                          <a:ea typeface="Arial Bold"/>
                        </a:rPr>
                        <a:t>Propo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efefe"/>
                          </a:solidFill>
                          <a:latin typeface="Arial Bold"/>
                          <a:ea typeface="Arial Bold"/>
                        </a:rPr>
                        <a:t>Topics group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efefe"/>
                          </a:solidFill>
                          <a:latin typeface="Arial Bold"/>
                          <a:ea typeface="Arial Bold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Dia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3:30 - 13: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Understanding impurity transport mechanisms in the plasma pedes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Loa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mpurities, Neutral and Turbulence, Pedestal Stabil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3:40 - 13: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Understanding of pedestal anomalous transport reduction/increase from L-mode to Type I ELMy H-mode and ba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Loa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mpurities, Neutral and Turbulence, Pedestal Stabil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3:45 - 13: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ffect of neutral particles on upstream and pedestal turbul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Cha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mpurities, Neutral and Turbulence, Pedestal Stabil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3:50 - 13: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xploration of I-mode regime on NS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Hubb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Alternative Scenari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3:55 - 14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ffects of different impurities on pedestal stru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Osbor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mpurities, Neutral and Turbulence, Pedestal Stabil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4:00 - 14: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Pedestal peeling-ballooning mode stability along the ballooning bound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Osbor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mpurities, Neutral and Turbulence, Pedestal Stabil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4:05 - 14: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nvestigations of nonlinear ELM dynam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Sm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mpurities, Neutral and Turbulence, Pedestal Stabil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4:15 - 14: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LM-induced fueling effects  on the pedestal ev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Dia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mpurities, Neutral and Turbulence, Pedestal Stabil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4:20 - 14: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Resonant ELM frequency behavior as a function of q95 with 3D fiel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L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D Fields Physic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4:45 -14: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LM suppression with mid-plane coi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Ah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D Fields Physic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4:50 -14: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mpact of 3-D fields on pedestal profiles under varying wall conditions and collis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Ca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D Fields Physic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4:55 -15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nteraction of LGI with 3D f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G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D Fields Physic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5:05 -15: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Multi-machine studies of the L-H power threshold dependence on aspect rat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Bong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Pedestal structure and L-H Transition Physic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5:10 -15: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ffect of beam tangency radius on H-mode access and quality with XGC simu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Church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Pedestal structure and L-H Transition Physic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5:15 -15: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Characterization of the Pedestal Structure as function Ip, BT, and Pn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Dia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Pedestal structure and L-H Transition Physic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5:20 -15: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ffects of B-&gt; Li transition on the pedestal stru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Maing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Pedestal structure and L-H Transition Physic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5:25 -15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"/>
          <p:cNvSpPr/>
          <p:nvPr/>
        </p:nvSpPr>
        <p:spPr>
          <a:xfrm>
            <a:off x="4366080" y="3619440"/>
            <a:ext cx="102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efe"/>
                </a:solidFill>
                <a:latin typeface="Arial"/>
                <a:ea typeface="Arial"/>
              </a:rPr>
              <a:t>Coffee Break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78C8-BECC-4CD8-8AE5-596E885C760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1454-AE56-4EE6-9997-66F44D962B3E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240" y="590400"/>
          <a:ext cx="9143640" cy="3025440"/>
        </p:xfrm>
        <a:graphic>
          <a:graphicData uri="http://schemas.openxmlformats.org/drawingml/2006/table">
            <a:tbl>
              <a:tblPr/>
              <a:tblGrid>
                <a:gridCol w="5542560"/>
                <a:gridCol w="979560"/>
                <a:gridCol w="1697400"/>
                <a:gridCol w="924120"/>
              </a:tblGrid>
              <a:tr h="36036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e6e5e5"/>
                          </a:solidFill>
                          <a:latin typeface="Arial Bold"/>
                          <a:ea typeface="Arial Bold"/>
                        </a:rPr>
                        <a:t>Title of proposals (cont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efefe"/>
                          </a:solidFill>
                          <a:latin typeface="Arial Bold"/>
                          <a:ea typeface="Arial Bold"/>
                        </a:rPr>
                        <a:t>Propo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efefe"/>
                          </a:solidFill>
                          <a:latin typeface="Arial Bold"/>
                          <a:ea typeface="Arial Bold"/>
                        </a:rPr>
                        <a:t>Topics group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efefe"/>
                          </a:solidFill>
                          <a:latin typeface="Arial Bold"/>
                          <a:ea typeface="Arial Bold"/>
                        </a:rPr>
                        <a:t>Ti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Pedestal rotation shear enhancement with high-n NTV braking and 2nd N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Men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D Fields Phys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5:30 - 15: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Comparison of H-mode pedestal with RF and N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Maing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Alternative Scen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5:35 - 15: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Can SOL heating from HHFW improve pedestal stabilit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Sm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Alternative Scen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5:40 - 15: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ffect of poloidal variation of gas fueling on H-mode access and sustai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Church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Alternative Scen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5:55 - 16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Generating and Characterizing the Edge Harmonic Oscillation via Counter-Ip Torque Inj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McK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Alternative Scen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6:00 - 16: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deas for Control of Pede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Kolem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16:05 - 16: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400480" y="4241880"/>
            <a:ext cx="4343400" cy="44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2752920" y="4292640"/>
            <a:ext cx="3634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efe"/>
                </a:solidFill>
                <a:latin typeface="Arial"/>
                <a:ea typeface="Arial"/>
              </a:rPr>
              <a:t>Group discussion to start at 16:15 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D14E-D149-4844-8EEA-F759AD219B4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11C6-BB14-4657-B841-A7F58DB99F0F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-216000"/>
            <a:ext cx="9131400" cy="127008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5840" y="4680"/>
          <a:ext cx="9078840" cy="6504120"/>
        </p:xfrm>
        <a:graphic>
          <a:graphicData uri="http://schemas.openxmlformats.org/drawingml/2006/table">
            <a:tbl>
              <a:tblPr/>
              <a:tblGrid>
                <a:gridCol w="6137280"/>
                <a:gridCol w="939960"/>
                <a:gridCol w="802800"/>
                <a:gridCol w="757440"/>
                <a:gridCol w="441360"/>
              </a:tblGrid>
              <a:tr h="37620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6e5e5"/>
                          </a:solidFill>
                          <a:latin typeface="Arial Bold"/>
                          <a:ea typeface="Arial Bold"/>
                        </a:rPr>
                        <a:t>Title of propos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efefe"/>
                          </a:solidFill>
                          <a:latin typeface="Arial Bold"/>
                          <a:ea typeface="Arial Bold"/>
                        </a:rPr>
                        <a:t>N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efefe"/>
                          </a:solidFill>
                          <a:latin typeface="Arial Bold"/>
                          <a:ea typeface="Arial Bold"/>
                        </a:rPr>
                        <a:t>Prior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efefe"/>
                          </a:solidFill>
                          <a:latin typeface="Arial Bold"/>
                          <a:ea typeface="Arial Bold"/>
                        </a:rPr>
                        <a:t>Run-time (day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efefe"/>
                          </a:solidFill>
                          <a:latin typeface="Arial Bold"/>
                          <a:ea typeface="Arial Bold"/>
                        </a:rPr>
                        <a:t>XP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Understanding impurity transport mechanisms in the plasma pedestal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Loa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ffect of neutral particles on upstream and pedestal turbulence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                  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Ch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Calibri Bold"/>
                          <a:ea typeface="Calibri Bold"/>
                        </a:rPr>
                        <a:t>Effects of different impurities on pedestal structure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                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Osbor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Multi-machine studies of the L-H power threshold dependence on aspect ratio </a:t>
                      </a: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Bong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ffect of beam tangency radius on H-mode access and quality with XGC simulations  </a:t>
                      </a: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Church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Characterization of the Pedestal Structure as function Ip, BT, and Pnbi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                           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Dia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Resonant ELM frequency behavior as a function of q95 with 3D fields                 </a:t>
                      </a: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L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mpact of 3-D fields on pedestal profiles under varying wall conditions and collisionality</a:t>
                      </a: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               </a:t>
                      </a: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Can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LM suppression with mid-plane coils</a:t>
                      </a: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                  </a:t>
                      </a: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Ah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ffects of B-&gt; Li transition on the pedestal structure              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Main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xploration of I-mode regime on NSTX-U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Hubb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Pedestal peeling-ballooning mode stability along the ballooning bound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Osbor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0.5 /1 (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ffect of poloidal variation of gas fueling on H-mode access and sustai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Church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w/ AS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nteraction of LGI with 3D f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G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w/PT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Investigations of nonlinear ELM dynam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Sm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w/ #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Pedestal rotation shear enhancement with high-n NTV braking and 2nd N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Men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Comparison of H-mode pedestal with RF and N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Main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w/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Can SOL heating from HHFW improve pedestal stabilit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Sm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w/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ELM-induced fueling effects  on the pedestal ev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Dia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w/ #1&amp;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Generating and Characterizing the Edge Harmonic Oscillation via Counter-Ip Torque Inj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McK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 Bold"/>
                          <a:ea typeface="Arial Bol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FA47D-3C76-4CC0-8F1B-7CAD6604C8A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 Bold"/>
              </a:rPr>
              <a:t>Brief Outline of Topical Science Group - Pedestal plans</a:t>
            </a: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0800" y="2057400"/>
            <a:ext cx="6514920" cy="2946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68360" indent="-42876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821cd"/>
                </a:solidFill>
                <a:latin typeface="Arial"/>
              </a:rPr>
              <a:t>Near term priorities</a:t>
            </a:r>
            <a:endParaRPr b="0" lang="en-US" sz="3000" spc="-1" strike="noStrike">
              <a:solidFill>
                <a:srgbClr val="1821cd"/>
              </a:solidFill>
              <a:latin typeface="Arial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821cd"/>
              </a:solidFill>
              <a:latin typeface="Arial"/>
            </a:endParaRPr>
          </a:p>
          <a:p>
            <a:pPr marL="468360" indent="-42876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821cd"/>
                </a:solidFill>
                <a:latin typeface="Arial"/>
              </a:rPr>
              <a:t>Mid to late run priorities</a:t>
            </a:r>
            <a:endParaRPr b="0" lang="en-US" sz="3000" spc="-1" strike="noStrike">
              <a:solidFill>
                <a:srgbClr val="1821cd"/>
              </a:solidFill>
              <a:latin typeface="Arial"/>
            </a:endParaRPr>
          </a:p>
          <a:p>
            <a:pPr marL="46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821cd"/>
              </a:solidFill>
              <a:latin typeface="Arial"/>
            </a:endParaRPr>
          </a:p>
          <a:p>
            <a:pPr marL="468360" indent="-42876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821cd"/>
                </a:solidFill>
                <a:latin typeface="Arial"/>
              </a:rPr>
              <a:t>Needed action items for the ROF</a:t>
            </a:r>
            <a:endParaRPr b="0" lang="en-US" sz="30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DA46-7068-4445-BDA0-C1D3AC4285F0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B5A6-3FC8-4482-B146-65BE1156951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4572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2221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Below, I think we should start with three Ip (low=0.7MA, medium=1.0MA , high=1.5 MA) at relatively low and medium triangularity. For each Ip, a two-point scan of BT (0.5 &amp; 1) would be sufficient.  As far as the PNBI, we should focus on the 1</a:t>
            </a:r>
            <a:r>
              <a:rPr b="0" lang="en-US" sz="900" spc="-1" strike="noStrike" baseline="32000">
                <a:solidFill>
                  <a:srgbClr val="222121"/>
                </a:solidFill>
                <a:latin typeface="Arial"/>
              </a:rPr>
              <a:t>st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 beam to get as much CHERS data. Once the 2</a:t>
            </a:r>
            <a:r>
              <a:rPr b="0" lang="en-US" sz="900" spc="-1" strike="noStrike" baseline="32000">
                <a:solidFill>
                  <a:srgbClr val="222121"/>
                </a:solidFill>
                <a:latin typeface="Arial"/>
              </a:rPr>
              <a:t>nd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 beam is introduced, we will not have useful CHERS data.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a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L-H threshold scalings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b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Pedestal width and height,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i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Density, temperature pedestal evolution time scales between ELMs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ii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Pedestal evolution from the L-H transition until the first ELM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iii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Determine the pedestal width scaling beta_pol.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iv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Map out the stability diagram for three Ip 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c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Characterization of pedestal turbulence using BES, reflectometry and GPI.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i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Wavenumber range and spatial localization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ii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Magnetic signatures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d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ELM characterizations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i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Frequency, types 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e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Generate a database for these pedestal parameters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i.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  <a:ea typeface="ヒラギノ角ゴ ProN W3"/>
              </a:rPr>
              <a:t>	</a:t>
            </a:r>
            <a:r>
              <a:rPr b="0" lang="en-US" sz="900" spc="-1" strike="noStrike">
                <a:solidFill>
                  <a:srgbClr val="222121"/>
                </a:solidFill>
                <a:latin typeface="Arial"/>
              </a:rPr>
              <a:t>Inter-ELM period, density and temperature pedestal width and height</a:t>
            </a:r>
            <a:endParaRPr b="0" lang="en-US" sz="9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5DF1-09AA-46AD-BE3E-CE80369EA656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D774-6264-40E7-850E-17C99C49853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 Bold"/>
              </a:rPr>
              <a:t>22 Proposal were submitted in the Pedestal TSG</a:t>
            </a: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90440" y="1841400"/>
            <a:ext cx="8763120" cy="341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Proposals were organized into 4 groups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e"/>
                </a:solidFill>
                <a:latin typeface="Arial"/>
              </a:rPr>
              <a:t>Pedestal stability, turbulence, and impurity effects ( 7 ideas)</a:t>
            </a:r>
            <a:endParaRPr b="0" lang="en-US" sz="2000" spc="-1" strike="noStrike">
              <a:solidFill>
                <a:srgbClr val="0000fe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e"/>
                </a:solidFill>
                <a:latin typeface="Arial"/>
              </a:rPr>
              <a:t>ELMs and 3D Physics (4 ideas)</a:t>
            </a:r>
            <a:endParaRPr b="0" lang="en-US" sz="2000" spc="-1" strike="noStrike">
              <a:solidFill>
                <a:srgbClr val="0000fe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e"/>
                </a:solidFill>
                <a:latin typeface="Arial"/>
              </a:rPr>
              <a:t>Pedestal structure and L-H transition (4 ideas)</a:t>
            </a:r>
            <a:endParaRPr b="0" lang="en-US" sz="2000" spc="-1" strike="noStrike">
              <a:solidFill>
                <a:srgbClr val="0000fe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e"/>
                </a:solidFill>
                <a:latin typeface="Arial"/>
              </a:rPr>
              <a:t>Alternative scenarios and pedestal manipulations (5 ideas)</a:t>
            </a:r>
            <a:endParaRPr b="0" lang="en-US" sz="2000" spc="-1" strike="noStrike">
              <a:solidFill>
                <a:srgbClr val="0000fe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After the presentations, we had a good discussion within the TSG to tentatively prioritize 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672040" y="6590880"/>
            <a:ext cx="179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DEB2-1857-4659-A302-D151B51187F3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B27C-7F57-48F4-8E3E-B9507BD9F36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3240">
            <a:solidFill>
              <a:srgbClr val="fb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3240">
            <a:solidFill>
              <a:srgbClr val="fb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152280" y="946080"/>
            <a:ext cx="88520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32cc"/>
                </a:solidFill>
                <a:latin typeface="Arial"/>
                <a:ea typeface="Arial"/>
              </a:rPr>
              <a:t>Pedestal Structure &amp; Control T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32cc"/>
                </a:solidFill>
                <a:latin typeface="Arial"/>
                <a:ea typeface="Arial"/>
              </a:rPr>
              <a:t>Open Discuss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1523880" y="2057400"/>
            <a:ext cx="6032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 Diallo, R. Maingi, D. Smit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1676520" y="3352680"/>
            <a:ext cx="572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0106"/>
                </a:solidFill>
                <a:latin typeface="Arial"/>
                <a:ea typeface="Arial"/>
              </a:rPr>
              <a:t>NSTX-U Pre-foru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0106"/>
                </a:solidFill>
                <a:latin typeface="Arial"/>
                <a:ea typeface="Arial"/>
              </a:rPr>
              <a:t>January 26, 2015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8395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838080" y="109440"/>
            <a:ext cx="1917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3645000" y="289080"/>
            <a:ext cx="1549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2cb"/>
                </a:solidFill>
                <a:latin typeface="Arial"/>
                <a:ea typeface="Arial"/>
              </a:rPr>
              <a:t>Supported by  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3240">
            <a:solidFill>
              <a:srgbClr val="fd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7696080" y="2286000"/>
            <a:ext cx="1295640" cy="44197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7696080" y="2921040"/>
            <a:ext cx="130824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Culham Sci Ctr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York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Chubu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Fukui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Hiroshima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Hyogo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Kyoto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Kyushu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Kyushu Tokai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NIFS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Niigata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U Tokyo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JAEA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b0106"/>
                </a:solidFill>
                <a:latin typeface="Arial"/>
                <a:ea typeface="Arial"/>
              </a:rPr>
              <a:t>Inst for Nucl Res, Kiev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Ioffe Inst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TRINITI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Chonbuk Natl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NFRI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KAIST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POSTECH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Seoul Natl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ASIPP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CIEMAT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FOM Inst DIFFER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ENEA, Frascati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CEA, Cadarache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IPP, Jülich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IPP, Garchin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0106"/>
                </a:solidFill>
                <a:latin typeface="Arial"/>
                <a:ea typeface="Arial"/>
              </a:rPr>
              <a:t>ASCR, Czech Rep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3240">
            <a:solidFill>
              <a:srgbClr val="fe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3240">
            <a:solidFill>
              <a:srgbClr val="fdff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4237200" y="4495680"/>
            <a:ext cx="3078000" cy="22100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4"/>
          <a:stretch/>
        </p:blipFill>
        <p:spPr>
          <a:xfrm>
            <a:off x="152280" y="2057400"/>
            <a:ext cx="1295640" cy="46483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52280" y="2057400"/>
            <a:ext cx="127008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Coll of Wm &amp; Mary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Columbia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CompX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General Atomics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FI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INL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Johns Hopkins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LANL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LLNL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Lodestar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MIT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Lehigh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Nova Photonics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Old Dominion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ORNL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PPPL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Princeton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Purdue U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SNL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Think Tank, Inc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C Davis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C Irvine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CLA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CSD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Colorado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Illinois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Maryland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Rochester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Tennessee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Tulsa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Washington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U Wisconsin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e"/>
                </a:solidFill>
                <a:latin typeface="Arial"/>
                <a:ea typeface="Arial"/>
              </a:rPr>
              <a:t>X Science LLC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1763640" y="4343400"/>
            <a:ext cx="2274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 Bold"/>
              </a:rPr>
              <a:t>Brainstorm on NSTX-U PED research topics for FY 15</a:t>
            </a: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0" y="92700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21cd"/>
                </a:solidFill>
                <a:latin typeface="Arial"/>
              </a:rPr>
              <a:t>Early in the run </a:t>
            </a:r>
            <a:endParaRPr b="0" lang="en-US" sz="1500" spc="-1" strike="noStrike">
              <a:solidFill>
                <a:srgbClr val="1821cd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Characterize the H-Mode pedestal structure at increased BT, Ip, and NBI heating power, and triangularity, DN vs LSN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lvl="2" marL="1152360" indent="-19836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b0106"/>
                </a:solidFill>
                <a:latin typeface="Arial"/>
              </a:rPr>
              <a:t>Generate database for testing EPED on ST and for gyrokinetic codes</a:t>
            </a:r>
            <a:endParaRPr b="0" lang="en-US" sz="1300" spc="-1" strike="noStrike">
              <a:solidFill>
                <a:srgbClr val="fb0106"/>
              </a:solidFill>
              <a:latin typeface="Arial"/>
            </a:endParaRPr>
          </a:p>
          <a:p>
            <a:pPr lvl="2" marL="1152360" indent="-19836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b0106"/>
                </a:solidFill>
                <a:latin typeface="Arial"/>
              </a:rPr>
              <a:t>Pedestal structure and evolution after L-H transition and between ELMs </a:t>
            </a:r>
            <a:endParaRPr b="0" lang="en-US" sz="1300" spc="-1" strike="noStrike">
              <a:solidFill>
                <a:srgbClr val="fb010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H-mode access and power threshold (L-H transition physics with T&amp;T)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Exploit the transition from Boronized PFCs to lithium coatings to investigate the impact on the pedestal structure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Identifying common characteristics in the phenomenology of different ELM Types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Physics of the underlying instabilities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lvl="2" marL="1152360" indent="-19836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b0106"/>
                </a:solidFill>
                <a:latin typeface="Arial"/>
              </a:rPr>
              <a:t>Intrinsic ELMs vs LGI-triggered ELMs vs RMP  </a:t>
            </a:r>
            <a:endParaRPr b="0" lang="en-US" sz="1500" spc="-1" strike="noStrike">
              <a:solidFill>
                <a:srgbClr val="fb010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Transport of ELM heat and particle flux in the SOL, and incident at the divertor and wall (cross-cutting with DiVSol &amp; MP)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55B8-6068-4449-A757-B5BE3C15F007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C414-B890-43D4-ABD6-263DB1748D1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0" y="1092240"/>
            <a:ext cx="8940960" cy="5346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Impact of the edge velocity shear on the pedestal stability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HHFW effects on the edge turbulence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Mechanism of ELMs triggering via LGI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Use 2nd NBI to broaden current profile and assess impact on ELM stability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B0FC-5A5D-4C2C-83F8-9280B2702938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97B9-47D1-4A08-ABC2-39D7A022C79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e"/>
                </a:solidFill>
                <a:latin typeface="Arial Bold"/>
              </a:rPr>
              <a:t>NSTX-U capabilities for first year campaign</a:t>
            </a:r>
            <a:endParaRPr b="0" lang="en-US" sz="28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809-ED4B-457C-8522-7B72CAFCE789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1371600"/>
            <a:ext cx="91314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ility capabili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82640" indent="-285840">
              <a:lnSpc>
                <a:spcPct val="100000"/>
              </a:lnSpc>
              <a:spcBef>
                <a:spcPts val="45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  <a:ea typeface="Arial"/>
              </a:rPr>
              <a:t>RWM coils; boronization (and later lithium); standard core fuelling; SGI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gnostic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82640" indent="-285840">
              <a:lnSpc>
                <a:spcPct val="100000"/>
              </a:lnSpc>
              <a:spcBef>
                <a:spcPts val="45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  <a:ea typeface="Arial"/>
              </a:rPr>
              <a:t>42-Channel MPTS,CHERS with Beam 1, filterscopes, tangential ME-SXR, BES,  Up &amp; Down SXR, Reflectometer, tangential bolometer, magnetics for EFIT reconstruction, LADA in bolometer mode, MS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ful machine parameter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82640" indent="-285840">
              <a:lnSpc>
                <a:spcPct val="100000"/>
              </a:lnSpc>
              <a:spcBef>
                <a:spcPts val="45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  <a:ea typeface="Arial"/>
              </a:rPr>
              <a:t>Ip = 0.5 - 1.5 MA, Bt = 0.5 - 0.75 T, PNBI =  4 - 12 MW, 0.3&lt;δ&lt;0.8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ysis tool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82640" indent="-285840">
              <a:lnSpc>
                <a:spcPct val="100000"/>
              </a:lnSpc>
              <a:spcBef>
                <a:spcPts val="45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  <a:ea typeface="Arial"/>
              </a:rPr>
              <a:t>Python tools refurbishment (Osborne &amp; Canal will be visiting PPPL in Feb.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E909-35AF-43DD-815C-806CFA373C4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AEB2-D787-44BB-816A-CC7BE8C97C68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-216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4CB0-51DC-4B2A-B853-DF2CAD2B29C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0CC9-377E-4231-B502-46BBCF215F56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-255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916BF-D3BB-4F51-98FC-316161A899B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 Bold"/>
              </a:rPr>
              <a:t>Action items from the PED-TSG  brainstorming meeting</a:t>
            </a: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004320" cy="5016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Investigate the impact of 2nd NBI on a fully developed pedestal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e"/>
                </a:solidFill>
                <a:latin typeface="Arial"/>
              </a:rPr>
              <a:t>need calculations or theoretical arguments to predict effect of NBI tangency radius variation on fully developed pedestal</a:t>
            </a:r>
            <a:endParaRPr b="0" lang="en-US" sz="2000" spc="-1" strike="noStrike">
              <a:solidFill>
                <a:srgbClr val="0000fe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Explore inner-wall limited H-mode space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e"/>
                </a:solidFill>
                <a:latin typeface="Arial"/>
              </a:rPr>
              <a:t>L-H threshold physics motivated by experiment/theory discrepancies with ITPA scaling: </a:t>
            </a:r>
            <a:endParaRPr b="0" lang="en-US" sz="2000" spc="-1" strike="noStrike">
              <a:solidFill>
                <a:srgbClr val="0000fe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400"/>
              </a:spcBef>
              <a:buClr>
                <a:srgbClr val="fb010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0106"/>
                </a:solidFill>
                <a:latin typeface="Arial"/>
              </a:rPr>
              <a:t>aspect ratio scaling, limited/diverted H-mode access, and edge collisionality.</a:t>
            </a:r>
            <a:endParaRPr b="0" lang="en-US" sz="1800" spc="-1" strike="noStrike">
              <a:solidFill>
                <a:srgbClr val="fb0106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Investigate the impurity effects on pedestal stability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e"/>
                </a:solidFill>
                <a:latin typeface="Arial"/>
              </a:rPr>
              <a:t>Extend XGC1 JET calcs to NSTX-U to help guide the experiments</a:t>
            </a:r>
            <a:endParaRPr b="0" lang="en-US" sz="2000" spc="-1" strike="noStrike">
              <a:solidFill>
                <a:srgbClr val="0000fe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CE1B-1F54-4169-B86F-1DAF8351752B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A7D05-2FDE-45A7-AC0A-E53B6AEFE592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 Bold"/>
              </a:rPr>
              <a:t>Highlights of the proposals - </a:t>
            </a:r>
            <a:br>
              <a:rPr sz="2400"/>
            </a:br>
            <a:r>
              <a:rPr b="0" lang="en-US" sz="2000" spc="-1" strike="noStrike">
                <a:solidFill>
                  <a:srgbClr val="0000fe"/>
                </a:solidFill>
                <a:latin typeface="Arial"/>
                <a:ea typeface="Arial"/>
              </a:rPr>
              <a:t>Pedestal stability, turbulence, and impurity effects</a:t>
            </a:r>
            <a:endParaRPr b="0" lang="en-US" sz="2000" spc="-1" strike="noStrike">
              <a:solidFill>
                <a:srgbClr val="0000fe"/>
              </a:solidFill>
              <a:latin typeface="Arial Bold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97000" indent="-2574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821cd"/>
                </a:solidFill>
                <a:latin typeface="Arial Bold"/>
                <a:ea typeface="Arial Bold"/>
              </a:rPr>
              <a:t>Understanding impurity transport mechanisms in the plasma pedestal</a:t>
            </a:r>
            <a:r>
              <a:rPr b="0" lang="en-US" sz="1800" spc="-1" strike="noStrike">
                <a:solidFill>
                  <a:srgbClr val="1821cd"/>
                </a:solidFill>
                <a:latin typeface="Arial"/>
              </a:rPr>
              <a:t> - Loarte</a:t>
            </a:r>
            <a:endParaRPr b="0" lang="en-US" sz="1800" spc="-1" strike="noStrike">
              <a:solidFill>
                <a:srgbClr val="1821cd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Determine the impurities (Ne Ar, Xe) profiles in the pedestal to test neoclassical predictions for ITER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297000" indent="-2574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821cd"/>
                </a:solidFill>
                <a:latin typeface="Arial Bold"/>
                <a:ea typeface="Arial Bold"/>
              </a:rPr>
              <a:t>Understanding of pedestal anomalous transport reduction/increase from L-mode to Type I ELMy H-mode and back</a:t>
            </a:r>
            <a:r>
              <a:rPr b="0" lang="en-US" sz="1800" spc="-1" strike="noStrike">
                <a:solidFill>
                  <a:srgbClr val="1821cd"/>
                </a:solidFill>
                <a:latin typeface="Arial"/>
              </a:rPr>
              <a:t> - Loarte</a:t>
            </a:r>
            <a:endParaRPr b="0" lang="en-US" sz="1800" spc="-1" strike="noStrike">
              <a:solidFill>
                <a:srgbClr val="1821cd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Measure the ETB transport evolution for L to ELMy and back to L mode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297000" indent="-2574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821cd"/>
                </a:solidFill>
                <a:latin typeface="Arial Bold"/>
                <a:ea typeface="Arial Bold"/>
              </a:rPr>
              <a:t>Effect of neutral particles on upstream and pedestal turbulence</a:t>
            </a:r>
            <a:r>
              <a:rPr b="0" lang="en-US" sz="1800" spc="-1" strike="noStrike">
                <a:solidFill>
                  <a:srgbClr val="1821cd"/>
                </a:solidFill>
                <a:latin typeface="Arial"/>
              </a:rPr>
              <a:t> -Chang</a:t>
            </a:r>
            <a:endParaRPr b="0" lang="en-US" sz="1800" spc="-1" strike="noStrike">
              <a:solidFill>
                <a:srgbClr val="1821cd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Validate the XGC1 results on the effects of neutral on the pedestal turbulence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297000" indent="-2574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821cd"/>
                </a:solidFill>
                <a:latin typeface="Arial Bold"/>
                <a:ea typeface="Arial Bold"/>
              </a:rPr>
              <a:t>Effects of different impurities on pedestal structure</a:t>
            </a:r>
            <a:r>
              <a:rPr b="0" lang="en-US" sz="1800" spc="-1" strike="noStrike">
                <a:solidFill>
                  <a:srgbClr val="1821cd"/>
                </a:solidFill>
                <a:latin typeface="Arial"/>
              </a:rPr>
              <a:t> - Osborne</a:t>
            </a:r>
            <a:endParaRPr b="0" lang="en-US" sz="1800" spc="-1" strike="noStrike">
              <a:solidFill>
                <a:srgbClr val="1821cd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Test He, Li, B, N, Ne, Ar effects on pedestal over a range of Ip , BT , Pnbi : Multi machine XP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297000" indent="-2574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821cd"/>
                </a:solidFill>
                <a:latin typeface="Arial Bold"/>
                <a:ea typeface="Arial Bold"/>
              </a:rPr>
              <a:t>Pedestal peeling-ballooning mode stability along the ballooning boundary</a:t>
            </a:r>
            <a:r>
              <a:rPr b="0" lang="en-US" sz="1800" spc="-1" strike="noStrike">
                <a:solidFill>
                  <a:srgbClr val="1821cd"/>
                </a:solidFill>
                <a:latin typeface="Arial"/>
              </a:rPr>
              <a:t> - Osborne</a:t>
            </a:r>
            <a:endParaRPr b="0" lang="en-US" sz="1800" spc="-1" strike="noStrike">
              <a:solidFill>
                <a:srgbClr val="1821cd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Low triangularity required to reach ballooning limit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297000" indent="-2574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821cd"/>
                </a:solidFill>
                <a:latin typeface="Arial Bold"/>
                <a:ea typeface="Arial Bold"/>
              </a:rPr>
              <a:t>Investigations of nonlinear ELM dynamics</a:t>
            </a:r>
            <a:r>
              <a:rPr b="0" lang="en-US" sz="1800" spc="-1" strike="noStrike">
                <a:solidFill>
                  <a:srgbClr val="1821cd"/>
                </a:solidFill>
                <a:latin typeface="Arial"/>
              </a:rPr>
              <a:t> - Smith</a:t>
            </a:r>
            <a:endParaRPr b="0" lang="en-US" sz="1800" spc="-1" strike="noStrike">
              <a:solidFill>
                <a:srgbClr val="1821cd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Perform kappa scans in ELMy discharges to understand the nonlinear ELM dynamics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297000" indent="-2574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821cd"/>
                </a:solidFill>
                <a:latin typeface="Arial Bold"/>
                <a:ea typeface="Arial Bold"/>
              </a:rPr>
              <a:t>ELM-induced fueling effects on the pedestal evolution</a:t>
            </a:r>
            <a:r>
              <a:rPr b="0" lang="en-US" sz="1800" spc="-1" strike="noStrike">
                <a:solidFill>
                  <a:srgbClr val="1821cd"/>
                </a:solidFill>
                <a:latin typeface="Arial"/>
              </a:rPr>
              <a:t> - Diallo</a:t>
            </a:r>
            <a:endParaRPr b="0" lang="en-US" sz="1800" spc="-1" strike="noStrike">
              <a:solidFill>
                <a:srgbClr val="1821cd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Understand the outgassing effects on the pedestal evolution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672040" y="6590880"/>
            <a:ext cx="179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4F43-D929-4A84-9928-7DBBC0EEDF35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DED4-27A1-43C5-B505-4000D43071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 Bold"/>
              </a:rPr>
              <a:t>Highlights of the proposals - </a:t>
            </a:r>
            <a:br>
              <a:rPr sz="2400"/>
            </a:br>
            <a:r>
              <a:rPr b="0" lang="en-US" sz="2000" spc="-1" strike="noStrike">
                <a:solidFill>
                  <a:srgbClr val="0000fe"/>
                </a:solidFill>
                <a:latin typeface="Arial"/>
                <a:ea typeface="Arial"/>
              </a:rPr>
              <a:t>3D Physics</a:t>
            </a:r>
            <a:endParaRPr b="0" lang="en-US" sz="2000" spc="-1" strike="noStrike">
              <a:solidFill>
                <a:srgbClr val="0000fe"/>
              </a:solidFill>
              <a:latin typeface="Arial Bold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701360"/>
            <a:ext cx="89280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97000" indent="-2574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21cd"/>
                </a:solidFill>
                <a:latin typeface="Arial Bold"/>
                <a:ea typeface="Arial Bold"/>
              </a:rPr>
              <a:t>Resonant ELM frequency behavior as a function of q95 with 3D fields</a:t>
            </a:r>
            <a:r>
              <a:rPr b="0" lang="en-US" sz="1900" spc="-1" strike="noStrike">
                <a:solidFill>
                  <a:srgbClr val="1821cd"/>
                </a:solidFill>
                <a:latin typeface="Arial"/>
              </a:rPr>
              <a:t>  - Lore</a:t>
            </a:r>
            <a:endParaRPr b="0" lang="en-US" sz="1900" spc="-1" strike="noStrike">
              <a:solidFill>
                <a:srgbClr val="1821cd"/>
              </a:solidFill>
              <a:latin typeface="Arial"/>
            </a:endParaRPr>
          </a:p>
          <a:p>
            <a:pPr lvl="1" marL="765000" indent="-26820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</a:rPr>
              <a:t>Look for resonant behavior in frequency vs q95 with 3D fields on NSTX-U</a:t>
            </a:r>
            <a:endParaRPr b="0" lang="en-US" sz="1600" spc="-1" strike="noStrike">
              <a:solidFill>
                <a:srgbClr val="0000fe"/>
              </a:solidFill>
              <a:latin typeface="Arial"/>
            </a:endParaRPr>
          </a:p>
          <a:p>
            <a:pPr marL="29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821cd"/>
              </a:solidFill>
              <a:latin typeface="Arial"/>
            </a:endParaRPr>
          </a:p>
          <a:p>
            <a:pPr marL="297000" indent="-2574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21cd"/>
                </a:solidFill>
                <a:latin typeface="Arial Bold"/>
                <a:ea typeface="Arial Bold"/>
              </a:rPr>
              <a:t>ELM suppression with mid-plane coils</a:t>
            </a:r>
            <a:r>
              <a:rPr b="0" lang="en-US" sz="1900" spc="-1" strike="noStrike">
                <a:solidFill>
                  <a:srgbClr val="1821cd"/>
                </a:solidFill>
                <a:latin typeface="Arial"/>
              </a:rPr>
              <a:t> -  Ahn</a:t>
            </a:r>
            <a:endParaRPr b="0" lang="en-US" sz="1900" spc="-1" strike="noStrike">
              <a:solidFill>
                <a:srgbClr val="1821cd"/>
              </a:solidFill>
              <a:latin typeface="Arial"/>
            </a:endParaRPr>
          </a:p>
          <a:p>
            <a:pPr lvl="1" marL="765000" indent="-26820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</a:rPr>
              <a:t>Higher aspect ratio in NSTX-U favorable for lower q95</a:t>
            </a:r>
            <a:endParaRPr b="0" lang="en-US" sz="1600" spc="-1" strike="noStrike">
              <a:solidFill>
                <a:srgbClr val="0000fe"/>
              </a:solidFill>
              <a:latin typeface="Arial"/>
            </a:endParaRPr>
          </a:p>
          <a:p>
            <a:pPr marL="29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821cd"/>
              </a:solidFill>
              <a:latin typeface="Arial"/>
            </a:endParaRPr>
          </a:p>
          <a:p>
            <a:pPr marL="297000" indent="-2574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21cd"/>
                </a:solidFill>
                <a:latin typeface="Arial Bold"/>
                <a:ea typeface="Arial Bold"/>
              </a:rPr>
              <a:t>Impact of 3-D fields on pedestal profiles under varying wall conditions and collisionality</a:t>
            </a:r>
            <a:r>
              <a:rPr b="0" lang="en-US" sz="1800" spc="-1" strike="noStrike">
                <a:solidFill>
                  <a:srgbClr val="1821cd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1821cd"/>
                </a:solidFill>
                <a:latin typeface="Arial"/>
              </a:rPr>
              <a:t>- Canik</a:t>
            </a:r>
            <a:endParaRPr b="0" lang="en-US" sz="1900" spc="-1" strike="noStrike">
              <a:solidFill>
                <a:srgbClr val="1821cd"/>
              </a:solidFill>
              <a:latin typeface="Arial"/>
            </a:endParaRPr>
          </a:p>
          <a:p>
            <a:pPr lvl="1" marL="765000" indent="-26820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</a:rPr>
              <a:t>Response of profiles to 3D fields with/without lithium will be revisited, extended to low collisionality</a:t>
            </a:r>
            <a:endParaRPr b="0" lang="en-US" sz="1600" spc="-1" strike="noStrike">
              <a:solidFill>
                <a:srgbClr val="0000fe"/>
              </a:solidFill>
              <a:latin typeface="Arial"/>
            </a:endParaRPr>
          </a:p>
          <a:p>
            <a:pPr marL="29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821cd"/>
              </a:solidFill>
              <a:latin typeface="Arial"/>
            </a:endParaRPr>
          </a:p>
          <a:p>
            <a:pPr marL="297000" indent="-25740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21cd"/>
                </a:solidFill>
                <a:latin typeface="Arial Bold"/>
                <a:ea typeface="Arial Bold"/>
              </a:rPr>
              <a:t>Interaction of LGI with 3D fields</a:t>
            </a:r>
            <a:r>
              <a:rPr b="0" lang="en-US" sz="1900" spc="-1" strike="noStrike">
                <a:solidFill>
                  <a:srgbClr val="1821cd"/>
                </a:solidFill>
                <a:latin typeface="Arial"/>
              </a:rPr>
              <a:t> -  Gan</a:t>
            </a:r>
            <a:endParaRPr b="0" lang="en-US" sz="1900" spc="-1" strike="noStrike">
              <a:solidFill>
                <a:srgbClr val="1821cd"/>
              </a:solidFill>
              <a:latin typeface="Arial"/>
            </a:endParaRPr>
          </a:p>
          <a:p>
            <a:pPr lvl="1" marL="765000" indent="-26820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e"/>
                </a:solidFill>
                <a:latin typeface="Arial"/>
              </a:rPr>
              <a:t>Investigate ELM frequency and size with combined LGI and 3D field application</a:t>
            </a:r>
            <a:endParaRPr b="0" lang="en-US" sz="1700" spc="-1" strike="noStrike">
              <a:solidFill>
                <a:srgbClr val="0000fe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672040" y="6590880"/>
            <a:ext cx="179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F43B-B671-4FFD-B53A-8EC61A885083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781E9-EF67-40A8-9E31-BC9442DB46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 Bold"/>
              </a:rPr>
              <a:t>Highlights of the proposals - </a:t>
            </a:r>
            <a:br>
              <a:rPr sz="2400"/>
            </a:br>
            <a:r>
              <a:rPr b="0" lang="en-US" sz="2000" spc="-1" strike="noStrike">
                <a:solidFill>
                  <a:srgbClr val="0000fe"/>
                </a:solidFill>
                <a:latin typeface="Arial"/>
                <a:ea typeface="Arial"/>
              </a:rPr>
              <a:t>Pedestal structure and L-H transition</a:t>
            </a:r>
            <a:endParaRPr b="0" lang="en-US" sz="2000" spc="-1" strike="noStrike">
              <a:solidFill>
                <a:srgbClr val="0000fe"/>
              </a:solidFill>
              <a:latin typeface="Arial Bold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39840" indent="-30024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1cd"/>
                </a:solidFill>
                <a:latin typeface="Arial Bold"/>
                <a:ea typeface="Arial Bold"/>
              </a:rPr>
              <a:t>Multi-machine studies of the L-H power threshold dependence on aspect ratio</a:t>
            </a:r>
            <a:r>
              <a:rPr b="0" lang="en-US" sz="2100" spc="-1" strike="noStrike">
                <a:solidFill>
                  <a:srgbClr val="1821cd"/>
                </a:solidFill>
                <a:latin typeface="Arial"/>
              </a:rPr>
              <a:t>  - Bongard</a:t>
            </a:r>
            <a:endParaRPr b="0" lang="en-US" sz="2100" spc="-1" strike="noStrike">
              <a:solidFill>
                <a:srgbClr val="1821cd"/>
              </a:solidFill>
              <a:latin typeface="Arial"/>
            </a:endParaRPr>
          </a:p>
          <a:p>
            <a:pPr lvl="1" marL="801720" indent="-30492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</a:rPr>
              <a:t>Test ITPA L-H scalings for low aspect ratio - multi - machine experiment with Pegasus</a:t>
            </a:r>
            <a:endParaRPr b="0" lang="en-US" sz="1600" spc="-1" strike="noStrike">
              <a:solidFill>
                <a:srgbClr val="0000fe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821cd"/>
              </a:solidFill>
              <a:latin typeface="Arial"/>
            </a:endParaRPr>
          </a:p>
          <a:p>
            <a:pPr marL="339840" indent="-30024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1cd"/>
                </a:solidFill>
                <a:latin typeface="Arial Bold"/>
                <a:ea typeface="Arial Bold"/>
              </a:rPr>
              <a:t>Effect of beam tangency radius on H-mode access and quality with XGC simulations</a:t>
            </a:r>
            <a:r>
              <a:rPr b="0" lang="en-US" sz="2100" spc="-1" strike="noStrike">
                <a:solidFill>
                  <a:srgbClr val="1821cd"/>
                </a:solidFill>
                <a:latin typeface="Arial"/>
              </a:rPr>
              <a:t> -  Churchill</a:t>
            </a:r>
            <a:endParaRPr b="0" lang="en-US" sz="2100" spc="-1" strike="noStrike">
              <a:solidFill>
                <a:srgbClr val="1821cd"/>
              </a:solidFill>
              <a:latin typeface="Arial"/>
            </a:endParaRPr>
          </a:p>
          <a:p>
            <a:pPr lvl="1" marL="801720" indent="-30492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Effect on L-H power threshold and H-mode quality and comparison with XGC suites of codes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821cd"/>
              </a:solidFill>
              <a:latin typeface="Arial"/>
            </a:endParaRPr>
          </a:p>
          <a:p>
            <a:pPr marL="339840" indent="-30024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1cd"/>
                </a:solidFill>
                <a:latin typeface="Arial Bold"/>
                <a:ea typeface="Arial Bold"/>
              </a:rPr>
              <a:t>Characterization of the Pedestal Structure as function Ip, BT, and Pnbi </a:t>
            </a:r>
            <a:r>
              <a:rPr b="0" lang="en-US" sz="2100" spc="-1" strike="noStrike">
                <a:solidFill>
                  <a:srgbClr val="1821cd"/>
                </a:solidFill>
                <a:latin typeface="Arial"/>
              </a:rPr>
              <a:t>-  Diallo</a:t>
            </a:r>
            <a:endParaRPr b="0" lang="en-US" sz="2100" spc="-1" strike="noStrike">
              <a:solidFill>
                <a:srgbClr val="1821cd"/>
              </a:solidFill>
              <a:latin typeface="Arial"/>
            </a:endParaRPr>
          </a:p>
          <a:p>
            <a:pPr lvl="1" marL="801720" indent="-30492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Document the pedestal structure and test EPED model for NSTX-U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821cd"/>
              </a:solidFill>
              <a:latin typeface="Arial"/>
            </a:endParaRPr>
          </a:p>
          <a:p>
            <a:pPr marL="339840" indent="-30024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1cd"/>
                </a:solidFill>
                <a:latin typeface="Arial Bold"/>
                <a:ea typeface="Arial Bold"/>
              </a:rPr>
              <a:t>Effects of B-&gt; Li transition on the pedestal structure</a:t>
            </a:r>
            <a:r>
              <a:rPr b="0" lang="en-US" sz="2100" spc="-1" strike="noStrike">
                <a:solidFill>
                  <a:srgbClr val="1821cd"/>
                </a:solidFill>
                <a:latin typeface="Arial"/>
              </a:rPr>
              <a:t> - Maingi</a:t>
            </a:r>
            <a:endParaRPr b="0" lang="en-US" sz="2100" spc="-1" strike="noStrike">
              <a:solidFill>
                <a:srgbClr val="1821cd"/>
              </a:solidFill>
              <a:latin typeface="Arial"/>
            </a:endParaRPr>
          </a:p>
          <a:p>
            <a:pPr lvl="1" marL="801720" indent="-30492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Document the transition and impact on the pedestal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672040" y="6590880"/>
            <a:ext cx="179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20FD-F907-4208-88BE-735F89EDFFFD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54FB7-1A17-48AD-B241-F1803856EF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 Bold"/>
              </a:rPr>
              <a:t>Highlights of the proposals - </a:t>
            </a:r>
            <a:br>
              <a:rPr sz="2400"/>
            </a:br>
            <a:r>
              <a:rPr b="0" lang="en-US" sz="2000" spc="-1" strike="noStrike">
                <a:solidFill>
                  <a:srgbClr val="0000fe"/>
                </a:solidFill>
                <a:latin typeface="Arial"/>
                <a:ea typeface="Arial"/>
              </a:rPr>
              <a:t>                        Alternative scenarios and pedestal manipulations</a:t>
            </a:r>
            <a:endParaRPr b="0" lang="en-US" sz="2000" spc="-1" strike="noStrike">
              <a:solidFill>
                <a:srgbClr val="0000fe"/>
              </a:solidFill>
              <a:latin typeface="Arial Bold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92700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371160" indent="-33264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21cd"/>
                </a:solidFill>
                <a:latin typeface="Arial Bold"/>
                <a:ea typeface="Arial Bold"/>
              </a:rPr>
              <a:t>Pedestal rotation shear enhancement with high-n NTV braking and 2nd NBI</a:t>
            </a:r>
            <a:r>
              <a:rPr b="0" lang="en-US" sz="1500" spc="-1" strike="noStrike">
                <a:solidFill>
                  <a:srgbClr val="1821cd"/>
                </a:solidFill>
                <a:latin typeface="Arial"/>
              </a:rPr>
              <a:t> - Menard</a:t>
            </a:r>
            <a:endParaRPr b="0" lang="en-US" sz="1500" spc="-1" strike="noStrike">
              <a:solidFill>
                <a:srgbClr val="1821cd"/>
              </a:solidFill>
              <a:latin typeface="Arial"/>
            </a:endParaRPr>
          </a:p>
          <a:p>
            <a:pPr lvl="1" marL="758880" indent="-27720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Try broad/varied NBI deposition + vary outer gap and NTV (both DC and pulsed)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37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21cd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21cd"/>
                </a:solidFill>
                <a:latin typeface="Arial Bold"/>
                <a:ea typeface="Arial Bold"/>
              </a:rPr>
              <a:t>Comparison of H-mode pedestal with RF and NBI</a:t>
            </a:r>
            <a:r>
              <a:rPr b="0" lang="en-US" sz="1500" spc="-1" strike="noStrike">
                <a:solidFill>
                  <a:srgbClr val="1821cd"/>
                </a:solidFill>
                <a:latin typeface="Arial"/>
              </a:rPr>
              <a:t> -  Maingi</a:t>
            </a:r>
            <a:endParaRPr b="0" lang="en-US" sz="1500" spc="-1" strike="noStrike">
              <a:solidFill>
                <a:srgbClr val="1821cd"/>
              </a:solidFill>
              <a:latin typeface="Arial"/>
            </a:endParaRPr>
          </a:p>
          <a:p>
            <a:pPr lvl="1" marL="758880" indent="-27720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Systematic comparison of the pedestal characteristics of RF heated H-modes with NBI heated H-modes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lvl="1" marL="75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21cd"/>
                </a:solidFill>
                <a:latin typeface="Arial Bold"/>
                <a:ea typeface="Arial Bold"/>
              </a:rPr>
              <a:t>Can SOL heating from HHFW improve pedestal stability?</a:t>
            </a:r>
            <a:r>
              <a:rPr b="0" lang="en-US" sz="1500" spc="-1" strike="noStrike">
                <a:solidFill>
                  <a:srgbClr val="1821cd"/>
                </a:solidFill>
                <a:latin typeface="Arial"/>
              </a:rPr>
              <a:t>  -  Smith</a:t>
            </a:r>
            <a:endParaRPr b="0" lang="en-US" sz="1500" spc="-1" strike="noStrike">
              <a:solidFill>
                <a:srgbClr val="1821cd"/>
              </a:solidFill>
              <a:latin typeface="Arial"/>
            </a:endParaRPr>
          </a:p>
          <a:p>
            <a:pPr lvl="1" marL="758880" indent="-27720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Explore HHFW mode and frequency scans to provide SOL heating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37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21cd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21cd"/>
                </a:solidFill>
                <a:latin typeface="Arial Bold"/>
                <a:ea typeface="Arial Bold"/>
              </a:rPr>
              <a:t>Effect of poloidal variation of gas fueling on H-mode access and sustainment</a:t>
            </a:r>
            <a:r>
              <a:rPr b="0" lang="en-US" sz="1500" spc="-1" strike="noStrike">
                <a:solidFill>
                  <a:srgbClr val="1821cd"/>
                </a:solidFill>
                <a:latin typeface="Arial"/>
              </a:rPr>
              <a:t> - Churchill</a:t>
            </a:r>
            <a:endParaRPr b="0" lang="en-US" sz="1500" spc="-1" strike="noStrike">
              <a:solidFill>
                <a:srgbClr val="1821cd"/>
              </a:solidFill>
              <a:latin typeface="Arial"/>
            </a:endParaRPr>
          </a:p>
          <a:p>
            <a:pPr lvl="1" marL="758880" indent="-27720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Understand using XGC0 simulations, varying the poloidal fueling location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lvl="1" marL="75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21cd"/>
                </a:solidFill>
                <a:latin typeface="Arial Bold"/>
                <a:ea typeface="Arial Bold"/>
              </a:rPr>
              <a:t>Generating and Characterizing the Edge Harmonic Oscillation via Counter-Ip Torque Injection</a:t>
            </a:r>
            <a:r>
              <a:rPr b="0" lang="en-US" sz="1500" spc="-1" strike="noStrike">
                <a:solidFill>
                  <a:srgbClr val="1821cd"/>
                </a:solidFill>
                <a:latin typeface="Arial"/>
              </a:rPr>
              <a:t> -  McKee</a:t>
            </a:r>
            <a:endParaRPr b="0" lang="en-US" sz="1500" spc="-1" strike="noStrike">
              <a:solidFill>
                <a:srgbClr val="1821cd"/>
              </a:solidFill>
              <a:latin typeface="Arial"/>
            </a:endParaRPr>
          </a:p>
          <a:p>
            <a:pPr lvl="1" marL="758880" indent="-27720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Use the DIII-D prescription to generate EHO on NSTX-U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  <a:p>
            <a:pPr marL="37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21cd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601"/>
              </a:spcBef>
              <a:buClr>
                <a:srgbClr val="1821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21cd"/>
                </a:solidFill>
                <a:latin typeface="Arial Bold"/>
                <a:ea typeface="Arial Bold"/>
              </a:rPr>
              <a:t>Ideas for Control of Pedestal</a:t>
            </a:r>
            <a:r>
              <a:rPr b="0" lang="en-US" sz="1500" spc="-1" strike="noStrike">
                <a:solidFill>
                  <a:srgbClr val="1821cd"/>
                </a:solidFill>
                <a:latin typeface="Arial"/>
              </a:rPr>
              <a:t> -  Kolemen</a:t>
            </a:r>
            <a:endParaRPr b="0" lang="en-US" sz="1500" spc="-1" strike="noStrike">
              <a:solidFill>
                <a:srgbClr val="1821cd"/>
              </a:solidFill>
              <a:latin typeface="Arial"/>
            </a:endParaRPr>
          </a:p>
          <a:p>
            <a:pPr lvl="1" marL="758880" indent="-277200">
              <a:lnSpc>
                <a:spcPct val="100000"/>
              </a:lnSpc>
              <a:spcBef>
                <a:spcPts val="499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e"/>
                </a:solidFill>
                <a:latin typeface="Arial"/>
              </a:rPr>
              <a:t>Reduce the EHO frequency as low as possible using magnetic braking and control of actuators (e.g, LGI. 3D fields) to enhance the pedestal</a:t>
            </a:r>
            <a:endParaRPr b="0" lang="en-US" sz="1500" spc="-1" strike="noStrike">
              <a:solidFill>
                <a:srgbClr val="0000fe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672040" y="6590880"/>
            <a:ext cx="179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EA53-82AA-4939-B6F1-7809720BBA0D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94F1-8D5E-4B49-9754-ACFEBB0781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e"/>
                </a:solidFill>
                <a:latin typeface="Arial Bold"/>
              </a:rPr>
              <a:t>Programmatic considerations for XP prioritization</a:t>
            </a: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0440" y="1688760"/>
            <a:ext cx="876312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SzPct val="1593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Viability of proposal given available NSTX-U capabilities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SzPct val="1593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NSTX-U Research Milestones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SzPct val="1593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ITER and ITPA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SzPct val="1593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Experiments leading to high-profile publications/presentations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SzPct val="1593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Career development: PhD thesis, post-doctoral research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SzPct val="1593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1cd"/>
                </a:solidFill>
                <a:latin typeface="Arial"/>
              </a:rPr>
              <a:t>Maximize institutional / researcher breadth of XP leadership</a:t>
            </a:r>
            <a:endParaRPr b="0" lang="en-US" sz="2400" spc="-1" strike="noStrike">
              <a:solidFill>
                <a:srgbClr val="1821cd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672040" y="6590880"/>
            <a:ext cx="179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46D6-39A7-4854-A0F8-AD3532D98212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"/>
          <p:cNvSpPr/>
          <p:nvPr/>
        </p:nvSpPr>
        <p:spPr>
          <a:xfrm>
            <a:off x="2918880" y="4952880"/>
            <a:ext cx="14299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21cd"/>
                </a:solidFill>
                <a:latin typeface="Arial"/>
                <a:ea typeface="Arial"/>
              </a:rPr>
              <a:t>Priority 1 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21cd"/>
                </a:solidFill>
                <a:latin typeface="Arial"/>
                <a:ea typeface="Arial"/>
              </a:rPr>
              <a:t>Priority 2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"/>
          <p:cNvSpPr/>
          <p:nvPr/>
        </p:nvSpPr>
        <p:spPr>
          <a:xfrm>
            <a:off x="4302000" y="5191200"/>
            <a:ext cx="11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"/>
          <p:cNvSpPr/>
          <p:nvPr/>
        </p:nvSpPr>
        <p:spPr>
          <a:xfrm>
            <a:off x="5611680" y="4952880"/>
            <a:ext cx="1386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21cd"/>
                </a:solidFill>
                <a:latin typeface="Arial"/>
                <a:ea typeface="Arial"/>
              </a:rPr>
              <a:t>5 day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21cd"/>
                </a:solidFill>
                <a:latin typeface="Arial"/>
                <a:ea typeface="Arial"/>
              </a:rPr>
              <a:t>3 day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"/>
          <p:cNvSpPr/>
          <p:nvPr/>
        </p:nvSpPr>
        <p:spPr>
          <a:xfrm>
            <a:off x="4302000" y="5877000"/>
            <a:ext cx="11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376E-57CA-47AE-BA38-1841BF88C31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672040" y="6590880"/>
            <a:ext cx="179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1673-10FF-47E2-BD28-5C9FD5EF05C7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-38160"/>
            <a:ext cx="9131400" cy="66675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4400" y="27000"/>
          <a:ext cx="8934480" cy="6593040"/>
        </p:xfrm>
        <a:graphic>
          <a:graphicData uri="http://schemas.openxmlformats.org/drawingml/2006/table">
            <a:tbl>
              <a:tblPr/>
              <a:tblGrid>
                <a:gridCol w="3803760"/>
                <a:gridCol w="752400"/>
                <a:gridCol w="555480"/>
                <a:gridCol w="506520"/>
                <a:gridCol w="647640"/>
                <a:gridCol w="727200"/>
                <a:gridCol w="1941480"/>
              </a:tblGrid>
              <a:tr h="4366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efe"/>
                          </a:solidFill>
                          <a:latin typeface="Arial"/>
                          <a:ea typeface="Arial"/>
                        </a:rPr>
                        <a:t>Title of propos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efe"/>
                          </a:solidFill>
                          <a:latin typeface="Arial"/>
                          <a:ea typeface="Arial"/>
                        </a:rPr>
                        <a:t>Nam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efe"/>
                          </a:solidFill>
                          <a:latin typeface="Arial"/>
                          <a:ea typeface="Arial"/>
                        </a:rPr>
                        <a:t>Pr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efe"/>
                          </a:solidFill>
                          <a:latin typeface="Arial"/>
                          <a:ea typeface="Arial"/>
                        </a:rPr>
                        <a:t>P1-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efe"/>
                          </a:solidFill>
                          <a:latin typeface="Arial"/>
                          <a:ea typeface="Arial"/>
                        </a:rPr>
                        <a:t>P2-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efe"/>
                          </a:solidFill>
                          <a:latin typeface="Arial"/>
                          <a:ea typeface="Arial"/>
                        </a:rPr>
                        <a:t>B vs 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efe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Understanding impurity transport mechanisms in the plasma pedes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Lo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Spectroscopy technically feasibl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Effect of neutral particles on upstream and pedestal turbulence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Ch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Effects of different impurities on pedestal structure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Osbor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Multi-machine studies of the L-H power threshold dependence on aspect ratio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Bong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priority 1 or 2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Effect of beam tangency radius on H-mode access and quality with XGC simulations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Church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Understanding of ped. anom. transp red/increase L-mode to Type I ELMy H-mode and ba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Lo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Characterization of the Pedestal Structure as function Ip, BT, and Pnbi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Dia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b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Resonant ELM frequency behavior as a function of q95 with 3D fields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L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P1: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cut B or Li part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Impact of 3-D fields on pedestal profiles under varying wall conditions and collisionality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Can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P2: 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ELM suppression with mid-plane coils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Ah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Effects of B-&gt; Li transition on the pedestal structure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Main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b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reduce runtim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Exploration of I-mode regime on NSTX-U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Hubb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postpone to full field? maybe P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Investigations of nonlinear ELM dynamic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Smi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some overlap with Diall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Pedestal peeling-ballooning mode stability along the ballooning bound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Osbor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req low triangula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Pedestal rotation shear enhancement with high-n NTV braking and 2nd N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Men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EHO initiative? w/ PCTF? P1 or P2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Generating and Characterizing the EHO via Cnt-Ip Torque Inj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McK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EHO initiative? w/ PCTF? P1 or P2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Effect of poloidal variation of gas fueling on H-mode access and sustai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Church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is absolute neutral density required?</a:t>
                      </a:r>
                      <a:r>
                        <a:rPr b="0" lang="en-US" sz="9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 w/ A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Interaction of LGI with 3D fiel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G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p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initial data from PCT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Comparison of H-mode pedestal with RF and N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Main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p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Can SOL heating from HHFW improve pedestal stability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Smi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p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connection to EHO initiativ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ELM-induced fueling effects  on the pedestal evol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Dia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p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821cd"/>
                          </a:solidFill>
                          <a:latin typeface="Arial"/>
                          <a:ea typeface="Arial"/>
                        </a:rPr>
                        <a:t>data from groups 1 &amp; 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0949-F9D2-43F4-A050-870C447F276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6578640"/>
            <a:ext cx="9142560" cy="279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272880" y="6635880"/>
            <a:ext cx="800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ec6"/>
                </a:solidFill>
                <a:latin typeface="Arial"/>
                <a:ea typeface="Arial"/>
              </a:rPr>
              <a:t>NSTX-U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"/>
          <p:cNvSpPr/>
          <p:nvPr/>
        </p:nvSpPr>
        <p:spPr>
          <a:xfrm>
            <a:off x="1828800" y="6629400"/>
            <a:ext cx="549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1cd"/>
                </a:solidFill>
                <a:latin typeface="Arial"/>
                <a:ea typeface="Arial"/>
              </a:rPr>
              <a:t>NSTX-U – Pedestal Structure NSTX-U Forum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e"/>
                </a:solidFill>
                <a:latin typeface="Arial Bold"/>
              </a:rPr>
              <a:t>NSTX-U capabilities (Brief overview)</a:t>
            </a:r>
            <a:endParaRPr b="0" lang="en-US" sz="2800" spc="-1" strike="noStrike">
              <a:solidFill>
                <a:srgbClr val="0000fe"/>
              </a:solidFill>
              <a:latin typeface="Arial Bold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665920" y="6590880"/>
            <a:ext cx="19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85C4-2AFB-4884-A95C-6ED9D67FC550}" type="slidenum">
              <a:rPr b="0" lang="en-US" sz="900" spc="-1" strike="noStrike">
                <a:solidFill>
                  <a:srgbClr val="3332cb"/>
                </a:solidFill>
                <a:latin typeface="Arial Bold"/>
                <a:ea typeface="Arial 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371600"/>
            <a:ext cx="91314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ility capabili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82640" indent="-285840">
              <a:lnSpc>
                <a:spcPct val="100000"/>
              </a:lnSpc>
              <a:spcBef>
                <a:spcPts val="45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  <a:ea typeface="Arial"/>
              </a:rPr>
              <a:t>RWM coils; boronization (and later lithium); standard core fuelling; SGI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gnostic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82640" indent="-285840">
              <a:lnSpc>
                <a:spcPct val="100000"/>
              </a:lnSpc>
              <a:spcBef>
                <a:spcPts val="45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  <a:ea typeface="Arial"/>
              </a:rPr>
              <a:t>42-Channel MPTS (with pedestal enhancement),CHERS with Beam 1, filterscopes, tangential ME-SXR, BES,  Up &amp; Down SXR, Reflectometer, tangential bolometer, magnetics for EFIT reconstruction, LADA in bolometer mode, MS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ful machine parameter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82640" indent="-285840">
              <a:lnSpc>
                <a:spcPct val="100000"/>
              </a:lnSpc>
              <a:spcBef>
                <a:spcPts val="45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  <a:ea typeface="Arial"/>
              </a:rPr>
              <a:t>Ip = 0.5 - 1.6 MA, Bt = 0.5 - ~0.65 T, PNBI =  4 - 12 MW, Low to mid triangularity, LSN, D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ysis tool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82640" indent="-285840">
              <a:lnSpc>
                <a:spcPct val="100000"/>
              </a:lnSpc>
              <a:spcBef>
                <a:spcPts val="451"/>
              </a:spcBef>
              <a:buClr>
                <a:srgbClr val="0000f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e"/>
                </a:solidFill>
                <a:latin typeface="Arial"/>
                <a:ea typeface="Arial"/>
              </a:rPr>
              <a:t>Python tools enhancements (Osborne &amp; Canal are currently PPP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9D11-934D-4616-8DB3-1C6A376E665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