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E484-6707-4346-A29A-1A5D8764B49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C017-95A1-4219-AA59-2BE70480F8DF}"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6B37-2D0F-4171-A8AE-6CC2285AFF2C}"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FC5D-65B2-4983-8ECF-45D4E79DFE66}"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662A-EE09-42D9-8F2B-9B0F7EC181C9}"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B5BD-4A75-4281-B0E7-795222AD5EBC}"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1"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5"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6"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9"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0"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1"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2"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3"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1"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6"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7"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0"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1"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5"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8"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1"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2"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3"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6"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7"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8"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9"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90"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9"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0"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3"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4"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7"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8"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3" name="Picture 14" descr="PowerPoint_Graphic"/>
          <p:cNvPicPr/>
          <p:nvPr/>
        </p:nvPicPr>
        <p:blipFill>
          <a:blip r:embed="rId2"/>
          <a:stretch/>
        </p:blipFill>
        <p:spPr>
          <a:xfrm>
            <a:off x="0" y="6235560"/>
            <a:ext cx="9144000" cy="622440"/>
          </a:xfrm>
          <a:prstGeom prst="rect">
            <a:avLst/>
          </a:prstGeom>
          <a:ln w="0">
            <a:noFill/>
          </a:ln>
        </p:spPr>
      </p:pic>
      <p:sp>
        <p:nvSpPr>
          <p:cNvPr id="4"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5"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E64AC9A5-8B6F-412A-80B9-916F5990FFC7}"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6"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K7U7</a:t>
            </a:r>
            <a:endParaRPr b="0" lang="en-US" sz="800" spc="-1" strike="noStrike">
              <a:solidFill>
                <a:srgbClr val="000000"/>
              </a:solidFill>
              <a:latin typeface="Century Gothic"/>
            </a:endParaRPr>
          </a:p>
        </p:txBody>
      </p:sp>
      <p:sp>
        <p:nvSpPr>
          <p:cNvPr id="7"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45" name="Picture 14" descr="PowerPoint_Graphic"/>
          <p:cNvPicPr/>
          <p:nvPr/>
        </p:nvPicPr>
        <p:blipFill>
          <a:blip r:embed="rId2"/>
          <a:stretch/>
        </p:blipFill>
        <p:spPr>
          <a:xfrm>
            <a:off x="0" y="6235560"/>
            <a:ext cx="9144000" cy="622440"/>
          </a:xfrm>
          <a:prstGeom prst="rect">
            <a:avLst/>
          </a:prstGeom>
          <a:ln w="0">
            <a:noFill/>
          </a:ln>
        </p:spPr>
      </p:pic>
      <p:sp>
        <p:nvSpPr>
          <p:cNvPr id="46"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47"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448853BA-0E8B-4F7A-871B-88029B2D3133}"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48"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K7U7</a:t>
            </a:r>
            <a:endParaRPr b="0" lang="en-US" sz="800" spc="-1" strike="noStrike">
              <a:solidFill>
                <a:srgbClr val="000000"/>
              </a:solidFill>
              <a:latin typeface="Century Gothic"/>
            </a:endParaRPr>
          </a:p>
        </p:txBody>
      </p:sp>
      <p:sp>
        <p:nvSpPr>
          <p:cNvPr id="49"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 name="Line 4"/>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 name="Straight Connector 11"/>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2" name="TextBox 12"/>
          <p:cNvSpPr/>
          <p:nvPr/>
        </p:nvSpPr>
        <p:spPr>
          <a:xfrm>
            <a:off x="539640" y="5961240"/>
            <a:ext cx="8353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Disclaimer: The views and opinions expressed herein do not necessarily reflect those of the ITER Organization</a:t>
            </a:r>
            <a:endParaRPr b="0" lang="en-US" sz="1100" spc="-1" strike="noStrike">
              <a:solidFill>
                <a:srgbClr val="000000"/>
              </a:solidFill>
              <a:latin typeface="Century Gothic"/>
            </a:endParaRPr>
          </a:p>
        </p:txBody>
      </p:sp>
      <p:sp>
        <p:nvSpPr>
          <p:cNvPr id="53"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4"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700280"/>
            <a:ext cx="87138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zing Type I ELMy H-modes in He plasmas and demonstration of ELM Control</a:t>
            </a:r>
            <a:endParaRPr b="1" lang="en-US" sz="3600" spc="-1" strike="noStrike">
              <a:solidFill>
                <a:srgbClr val="000000"/>
              </a:solidFill>
              <a:latin typeface="Arial"/>
            </a:endParaRPr>
          </a:p>
        </p:txBody>
      </p:sp>
      <p:sp>
        <p:nvSpPr>
          <p:cNvPr id="99"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J A Snipes, A Loarte</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ITER Organizatio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F Poli</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PPP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44000" y="980640"/>
            <a:ext cx="8891640" cy="5327640"/>
          </a:xfrm>
          <a:prstGeom prst="rect">
            <a:avLst/>
          </a:prstGeom>
          <a:noFill/>
          <a:ln w="0">
            <a:noFill/>
          </a:ln>
        </p:spPr>
        <p:txBody>
          <a:bodyPr anchor="t">
            <a:normAutofit fontScale="97000"/>
          </a:bodyPr>
          <a:p>
            <a:pPr marL="278640" indent="-27864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Motivation: </a:t>
            </a:r>
            <a:r>
              <a:rPr b="0" lang="en-GB" sz="2000" spc="-1" strike="noStrike">
                <a:solidFill>
                  <a:srgbClr val="333399"/>
                </a:solidFill>
                <a:latin typeface="Times New Roman"/>
                <a:ea typeface="Times New Roman"/>
              </a:rPr>
              <a:t>The ITER Research Plan assumes H-modes in helium plasmas with large Type I ELMs can be achieved in ITER at 2.65 T because of the lower H-mode threshold observed in helium plasmas in some devices. These H-modes will be used to develop  operational requirements and control schemes such as ELM control, W control, core W transport control, radiative divertor operation and access/exit to/from H-mode in the non-active phase in advance of DT operation. ELM control is essential to control divertor heat flux and avoid W accumulation, which could lead to the loss of the H-mode by increased core radiative losses and possibly to increased disruptions</a:t>
            </a:r>
            <a:r>
              <a:rPr b="0" lang="en-US" sz="2000" spc="-1" strike="noStrike">
                <a:solidFill>
                  <a:srgbClr val="333399"/>
                </a:solidFill>
                <a:latin typeface="Times New Roman"/>
                <a:ea typeface="Times New Roman"/>
              </a:rPr>
              <a:t>.</a:t>
            </a:r>
            <a:endParaRPr b="0" lang="en-US" sz="2000" spc="-1" strike="noStrike">
              <a:solidFill>
                <a:srgbClr val="000000"/>
              </a:solidFill>
              <a:latin typeface="Arial"/>
            </a:endParaRPr>
          </a:p>
          <a:p>
            <a:pPr marL="278640" indent="-27864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Goals: </a:t>
            </a:r>
            <a:r>
              <a:rPr b="0" lang="en-US" sz="2000" spc="-1" strike="noStrike">
                <a:solidFill>
                  <a:srgbClr val="333399"/>
                </a:solidFill>
                <a:latin typeface="Times New Roman"/>
                <a:ea typeface="Times New Roman"/>
              </a:rPr>
              <a:t>Demonstrate feasibility of Type I ELMy H-modes in helium and </a:t>
            </a:r>
            <a:r>
              <a:rPr b="0" lang="en-GB" sz="2000" spc="-1" strike="noStrike">
                <a:solidFill>
                  <a:srgbClr val="333399"/>
                </a:solidFill>
                <a:latin typeface="Times New Roman"/>
                <a:ea typeface="Times New Roman"/>
              </a:rPr>
              <a:t>characterize the pedestal, ELM, and impurity behavior compared to deuterium. Determine if the foreseen ELM control schemes in ITER will be effective in helium plasmas and whether the ELM control requirements are similar to D. </a:t>
            </a:r>
            <a:endParaRPr b="0" lang="en-US" sz="2000" spc="-1" strike="noStrike">
              <a:solidFill>
                <a:srgbClr val="000000"/>
              </a:solidFill>
              <a:latin typeface="Arial"/>
            </a:endParaRPr>
          </a:p>
          <a:p>
            <a:pPr marL="278640" indent="-27864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Plan of execution: </a:t>
            </a:r>
            <a:r>
              <a:rPr b="0" lang="en-US" sz="2000" spc="-1" strike="noStrike">
                <a:solidFill>
                  <a:srgbClr val="333399"/>
                </a:solidFill>
                <a:latin typeface="Times New Roman"/>
                <a:ea typeface="Times New Roman"/>
              </a:rPr>
              <a:t>Obtain Type I ELMy H-modes in helium in NSTX-U with ICRF or NBI (in D or H) if D/H concentration can be kept low (Li coatings ?). Characterize the pedestal and ELM behavior in helium compared to deuterium as a function of density and input power. Apply ELM control techniques using 3D fields and pellet pacing and compare control requirements with those of D plasmas</a:t>
            </a:r>
            <a:endParaRPr b="0" lang="en-US" sz="2000" spc="-1" strike="noStrike">
              <a:solidFill>
                <a:srgbClr val="000000"/>
              </a:solidFill>
              <a:latin typeface="Arial"/>
            </a:endParaRPr>
          </a:p>
        </p:txBody>
      </p:sp>
      <p:sp>
        <p:nvSpPr>
          <p:cNvPr id="101" name="Rectangle 3"/>
          <p:cNvSpPr/>
          <p:nvPr/>
        </p:nvSpPr>
        <p:spPr>
          <a:xfrm>
            <a:off x="250920" y="44280"/>
            <a:ext cx="8569080" cy="79236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Times New Roman"/>
              </a:rPr>
              <a:t>Characterizing Type I ELMy H-modes in He plasmas and demonstration of ELM Control</a:t>
            </a:r>
            <a:endParaRPr b="0" lang="en-US" sz="3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2560" y="595440"/>
            <a:ext cx="8785080" cy="5657760"/>
          </a:xfrm>
          <a:prstGeom prst="rect">
            <a:avLst/>
          </a:prstGeom>
          <a:noFill/>
          <a:ln w="0">
            <a:noFill/>
          </a:ln>
        </p:spPr>
        <p:txBody>
          <a:bodyPr anchor="t">
            <a:normAutofit/>
          </a:bodyPr>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Initial experiments carried out in DIII-D in 2014</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ELM suppression with RMP was only observed at low power</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Core D concentration &lt; 20%, low rotation with balanced NBI + ECH</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Only a few regular Type I ELMy H-modes were obtained at high and low power with high helium concentration and deuterium reference pulses still need to be taken</a:t>
            </a:r>
            <a:endParaRPr b="0" lang="en-US" sz="22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AUG helium experiments</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Performed at q95 ~3 in ITER baseline scenario</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ELM frequency &gt; 100 Hz in helium without W accumulation, much less in D</a:t>
            </a:r>
            <a:endParaRPr b="0" lang="en-US" sz="22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experiments in AUG to reduce ELM frequency </a:t>
            </a:r>
            <a:endParaRPr b="0" lang="en-US" sz="24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ossible additional helium experiments in C-Mod</a:t>
            </a:r>
            <a:endParaRPr b="0" lang="en-US" sz="24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NSTX-U helium H-mode experiments would provide additional low rotation comparison if possible with ICRF heating and comparison of ELM control with 3D fields and pellet pacing</a:t>
            </a:r>
            <a:endParaRPr b="0" lang="en-US" sz="2400" spc="-1" strike="noStrike">
              <a:solidFill>
                <a:srgbClr val="000000"/>
              </a:solidFill>
              <a:latin typeface="Arial"/>
            </a:endParaRPr>
          </a:p>
        </p:txBody>
      </p:sp>
      <p:sp>
        <p:nvSpPr>
          <p:cNvPr id="103" name="Rectangle 3"/>
          <p:cNvSpPr/>
          <p:nvPr/>
        </p:nvSpPr>
        <p:spPr>
          <a:xfrm>
            <a:off x="250920" y="52560"/>
            <a:ext cx="8569080" cy="51588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OS-2.1 </a:t>
            </a:r>
            <a:r>
              <a:rPr b="0" lang="en-GB" sz="2800" spc="-1" strike="noStrike">
                <a:solidFill>
                  <a:srgbClr val="333399"/>
                </a:solidFill>
                <a:latin typeface="Times New Roman"/>
              </a:rPr>
              <a:t>Compare helium H-modes in different devices</a:t>
            </a:r>
            <a:endParaRPr b="0" lang="en-US" sz="28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06:07Z</dcterms:created>
  <dc:creator>J A Snipes</dc:creator>
  <dc:description/>
  <dc:language>en-US</dc:language>
  <cp:lastModifiedBy>Snipes Joseph</cp:lastModifiedBy>
  <dcterms:modified xsi:type="dcterms:W3CDTF">2015-02-24T09:40:29Z</dcterms:modified>
  <cp:revision>182</cp:revision>
  <dc:subject/>
  <dc:title>TBM Physics Effects on Plasma Operations</dc:title>
</cp:coreProperties>
</file>