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58400" cy="73152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62000" y="684000"/>
            <a:ext cx="4810320" cy="35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96216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6CAD-482F-4E5E-91DE-095F0817B25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E1BE-2B51-4F40-919F-CC9CBC43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062000" y="684360"/>
            <a:ext cx="4810320" cy="3500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8647-6A1D-4410-94F2-ED57C108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62000" y="684360"/>
            <a:ext cx="4810320" cy="35002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55FC-D552-4137-A6AB-8BED8469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062000" y="684360"/>
            <a:ext cx="4810320" cy="35002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962520" y="8750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6816-EC37-4C43-AEED-1EEEBC40E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62000" y="684360"/>
            <a:ext cx="4810320" cy="3500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480" y="4412880"/>
            <a:ext cx="51022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5BB2-E29C-4F31-BA27-E14DB0BE3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8120" y="1299960"/>
            <a:ext cx="96393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8120" y="4059360"/>
            <a:ext cx="96393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EBC8-0CE0-41DC-81CA-5C6B043FC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8120" y="1299960"/>
            <a:ext cx="47037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7320" y="1299960"/>
            <a:ext cx="47037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8120" y="4059360"/>
            <a:ext cx="47037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7320" y="4059360"/>
            <a:ext cx="47037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AA76-72A9-4696-AFDB-8723B98D1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8120" y="1299960"/>
            <a:ext cx="31035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0" y="1299960"/>
            <a:ext cx="31035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6280" y="1299960"/>
            <a:ext cx="31035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8120" y="4059360"/>
            <a:ext cx="31035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7200" y="4059360"/>
            <a:ext cx="31035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6280" y="4059360"/>
            <a:ext cx="31035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E733-704D-4F87-813B-5F322D171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8120" y="1299960"/>
            <a:ext cx="963936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C71E-229D-4F06-89BA-FE3CD704E8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8120" y="1299960"/>
            <a:ext cx="9639360" cy="528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CC7F-220A-4688-8925-329ED0C95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8120" y="1299960"/>
            <a:ext cx="4703760" cy="528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7320" y="1299960"/>
            <a:ext cx="4703760" cy="528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D17D-CCA5-4C66-8086-6D3276BA4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007B-9219-4CAB-A5F8-0BAC94D95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0584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D7B6-BB64-44CA-8259-7EE3A373A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8120" y="1299960"/>
            <a:ext cx="47037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7320" y="1299960"/>
            <a:ext cx="4703760" cy="528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8120" y="4059360"/>
            <a:ext cx="47037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452E-B766-48F7-B136-4490ED9EE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8120" y="1299960"/>
            <a:ext cx="4703760" cy="528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7320" y="1299960"/>
            <a:ext cx="47037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7320" y="4059360"/>
            <a:ext cx="47037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F0FB-EA25-440E-A9FA-ED1859884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8120" y="1299960"/>
            <a:ext cx="47037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7320" y="1299960"/>
            <a:ext cx="47037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8120" y="4059360"/>
            <a:ext cx="9639360" cy="251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3B55-14FE-479A-870A-C34F0FF29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68120" y="1299960"/>
            <a:ext cx="9639360" cy="528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1520" indent="-371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39840" indent="-2476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64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6" descr=""/>
          <p:cNvPicPr/>
          <p:nvPr/>
        </p:nvPicPr>
        <p:blipFill>
          <a:blip r:embed="rId2"/>
          <a:stretch/>
        </p:blipFill>
        <p:spPr>
          <a:xfrm>
            <a:off x="0" y="0"/>
            <a:ext cx="10058400" cy="98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" name="Picture 194" descr=""/>
          <p:cNvPicPr/>
          <p:nvPr/>
        </p:nvPicPr>
        <p:blipFill>
          <a:blip r:embed="rId3"/>
          <a:stretch/>
        </p:blipFill>
        <p:spPr>
          <a:xfrm>
            <a:off x="0" y="7016760"/>
            <a:ext cx="10058400" cy="298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99"/>
          <p:cNvSpPr/>
          <p:nvPr/>
        </p:nvSpPr>
        <p:spPr>
          <a:xfrm>
            <a:off x="299880" y="7078680"/>
            <a:ext cx="87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1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9220320" y="7070760"/>
            <a:ext cx="838080" cy="163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C6F9-56A2-4FC8-AB9E-019C527FF536}" type="slidenum">
              <a:rPr b="1" lang="en-US" sz="10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2011320" y="7070760"/>
            <a:ext cx="603576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822cd"/>
                </a:solidFill>
                <a:latin typeface="Arial"/>
                <a:ea typeface="Arial"/>
              </a:rPr>
              <a:t>NSTX-U RF-2015, EP-TSG session – </a:t>
            </a:r>
            <a:r>
              <a:rPr b="1" i="1" lang="en-US" sz="900" spc="-1" strike="noStrike">
                <a:solidFill>
                  <a:srgbClr val="1822cd"/>
                </a:solidFill>
                <a:latin typeface="Arial"/>
                <a:ea typeface="Arial"/>
              </a:rPr>
              <a:t>Agenda &amp; prioritization process</a:t>
            </a:r>
            <a:r>
              <a:rPr b="1" lang="en-US" sz="900" spc="-1" strike="noStrike">
                <a:solidFill>
                  <a:srgbClr val="1822cd"/>
                </a:solidFill>
                <a:latin typeface="Arial"/>
                <a:ea typeface="Arial"/>
              </a:rPr>
              <a:t>,  M. Podestà (02/24/2015)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68120" y="1057320"/>
            <a:ext cx="97221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EP-TSG session</a:t>
            </a:r>
            <a:endParaRPr b="1" i="1" lang="en-US" sz="35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Meeting agenda et al.</a:t>
            </a:r>
            <a:endParaRPr b="1" i="1" lang="en-US" sz="35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676520" y="2336760"/>
            <a:ext cx="6621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. Podestà</a:t>
            </a:r>
            <a:endParaRPr b="1" i="1" lang="en-US" sz="22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844640" y="3332160"/>
            <a:ext cx="628668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NSTX-U Research Forum 2015</a:t>
            </a:r>
            <a:endParaRPr b="1" i="1" lang="en-US" sz="17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EP-TSG session</a:t>
            </a:r>
            <a:endParaRPr b="1" i="1" lang="en-US" sz="17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PPL, Room B252</a:t>
            </a:r>
            <a:endParaRPr b="1" i="1" lang="en-US" sz="1700" spc="-1" strike="noStrike">
              <a:solidFill>
                <a:srgbClr val="1822c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02/24/2015</a:t>
            </a:r>
            <a:endParaRPr b="1" i="1" lang="en-US" sz="17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53" name="Picture 127" descr=""/>
          <p:cNvPicPr/>
          <p:nvPr/>
        </p:nvPicPr>
        <p:blipFill>
          <a:blip r:embed="rId1"/>
          <a:stretch/>
        </p:blipFill>
        <p:spPr>
          <a:xfrm>
            <a:off x="0" y="-1440"/>
            <a:ext cx="1005840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8"/>
          <p:cNvSpPr/>
          <p:nvPr/>
        </p:nvSpPr>
        <p:spPr>
          <a:xfrm>
            <a:off x="922320" y="117360"/>
            <a:ext cx="20955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171fc7"/>
                </a:solidFill>
                <a:latin typeface="Arial"/>
                <a:ea typeface="Arial"/>
              </a:rPr>
              <a:t>NSTX-U</a:t>
            </a:r>
            <a:endParaRPr b="1" i="1" lang="en-US" sz="39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55" name="Rectangle 129"/>
          <p:cNvSpPr/>
          <p:nvPr/>
        </p:nvSpPr>
        <p:spPr>
          <a:xfrm>
            <a:off x="4016520" y="244440"/>
            <a:ext cx="1682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Supported by   </a:t>
            </a:r>
            <a:endParaRPr b="1" i="1" lang="en-US" sz="20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56" name="Picture 53" descr="ppi224.tmp"/>
          <p:cNvPicPr/>
          <p:nvPr/>
        </p:nvPicPr>
        <p:blipFill>
          <a:blip r:embed="rId2"/>
          <a:stretch/>
        </p:blipFill>
        <p:spPr>
          <a:xfrm>
            <a:off x="8466120" y="2193840"/>
            <a:ext cx="1424160" cy="4876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3"/>
          <p:cNvSpPr/>
          <p:nvPr/>
        </p:nvSpPr>
        <p:spPr>
          <a:xfrm>
            <a:off x="8466120" y="2118600"/>
            <a:ext cx="142416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spAutoFit/>
          </a:bodyPr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Culham Sci Ctr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York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Chubu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Fukui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Hiroshima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Hyogo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Kyoto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Kyushu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Kyushu Tokai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NIFS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Niigata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U Tokyo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JAEA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0000"/>
                </a:solidFill>
                <a:latin typeface="Arial"/>
              </a:rPr>
              <a:t>Inst for Nucl Res, Kiev</a:t>
            </a:r>
            <a:endParaRPr b="1" i="1" lang="en-US" sz="9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Ioffe Inst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TRINITI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Chonbuk Natl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NFRI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KAIST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POSTECH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Seoul Natl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ASIPP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CIEMAT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FOM Inst DIFFER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ENEA, Frascati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CEA, Cadarache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IPP, Jülich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IPP, Garching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ASCR, Czech Rep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58" name="Picture 3" descr="C:\Users\jmenard\Desktop\Picture1.jpg"/>
          <p:cNvPicPr/>
          <p:nvPr/>
        </p:nvPicPr>
        <p:blipFill>
          <a:blip r:embed="rId3"/>
          <a:stretch/>
        </p:blipFill>
        <p:spPr>
          <a:xfrm>
            <a:off x="4660920" y="4795920"/>
            <a:ext cx="3386160" cy="235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8" descr="ppi221.tmp"/>
          <p:cNvPicPr/>
          <p:nvPr/>
        </p:nvPicPr>
        <p:blipFill>
          <a:blip r:embed="rId4"/>
          <a:stretch/>
        </p:blipFill>
        <p:spPr>
          <a:xfrm>
            <a:off x="168120" y="2193840"/>
            <a:ext cx="1424160" cy="4876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2"/>
          <p:cNvSpPr/>
          <p:nvPr/>
        </p:nvSpPr>
        <p:spPr>
          <a:xfrm>
            <a:off x="168120" y="2152800"/>
            <a:ext cx="138276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Coll of Wm &amp; Mary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Columbia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CompX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General Atomics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FI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INL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Johns Hopkins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LANL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LLNL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Lodestar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MIT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Lehigh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Nova Photonics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Old Dominion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ORNL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PPPL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Princeton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Purdue U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SNL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Think Tank, Inc.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C Davis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C Irvine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CLA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CSD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 Colorado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 Illinois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 Maryland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 Rochester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 Tennessee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 Tulsa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 Washington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U Wisconsin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X Science LLC</a:t>
            </a:r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</p:txBody>
      </p:sp>
      <p:pic>
        <p:nvPicPr>
          <p:cNvPr id="61" name="Picture 57" descr=""/>
          <p:cNvPicPr/>
          <p:nvPr/>
        </p:nvPicPr>
        <p:blipFill>
          <a:blip r:embed="rId5"/>
          <a:stretch/>
        </p:blipFill>
        <p:spPr>
          <a:xfrm>
            <a:off x="1940040" y="4632480"/>
            <a:ext cx="250164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57320"/>
            <a:ext cx="10058400" cy="6013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30-1:35pm  Podestà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eting agenda &amp; XP prioritiza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verview of XP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35-1:45pm  Crock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CLA reflectometer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tation effects on CAEs and GA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45-2:00pm  Li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DA/ssNPA/sFLIP checkout X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am-ion confinement of the 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N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ffects of 3D fields on fast ion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00-2:05pm  Ha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w-f MHD and fast ion re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05-2:25pm  Fredrick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rametric dependence of TAE avalan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E with high beta, q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HFW suppression of Alfvénic w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HFW rotation control &amp; TA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itial TAE excitation with ante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25:2:30pm  Boegl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FP fusion source profile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30-2:40pm  Podest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mmary of remaining XP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bination of XP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40-3:10pm  Podestà + EP-T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10-3:20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oritization of XP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30-4:30pm  Podestà + EP-TS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9220320" y="7070760"/>
            <a:ext cx="83808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1E16-360F-4306-ACA9-2C0E0300ACB7}" type="slidenum">
              <a:rPr b="1" lang="en-US" sz="10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4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ombination &amp; prioritization process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4240" y="1218960"/>
            <a:ext cx="9889920" cy="5770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1520" indent="-371520">
              <a:spcBef>
                <a:spcPts val="6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presentations of submitted XP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55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Identify similar XPs, combine whenever possible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806400" indent="-309600">
              <a:spcBef>
                <a:spcPts val="55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un time is limited:</a:t>
            </a:r>
            <a:r>
              <a:rPr b="0" i="1" lang="en-US" sz="2200" spc="-1" strike="noStrike">
                <a:solidFill>
                  <a:srgbClr val="3333cc"/>
                </a:solidFill>
                <a:latin typeface="Arial"/>
              </a:rPr>
              <a:t> JEM’s guidance is 5.5 un Day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806400" indent="-309600">
              <a:spcBef>
                <a:spcPts val="55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Identify cross-TSG XP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2" marL="1239840" indent="-2476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ed input from other TSG sessions to make decision on these ideas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1239840" indent="-2476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ordination will follow at the Science Group level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1239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71520" indent="-371520">
              <a:spcBef>
                <a:spcPts val="6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oritization will be based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55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Importance to achieve JRT, Milestone(s) goals; ITPA task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806400" indent="-309600">
              <a:spcBef>
                <a:spcPts val="55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Importance to address EP-TSG goals for FY-15 from Five Year Plan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806400" indent="-309600">
              <a:spcBef>
                <a:spcPts val="550"/>
              </a:spcBef>
              <a:buClr>
                <a:srgbClr val="3333cc"/>
              </a:buClr>
              <a:buFont typeface="Lucida Grand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Arial"/>
              </a:rPr>
              <a:t>Draft list w/ priorities, run time request by the end of this meeting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806400" indent="-309600">
              <a:spcBef>
                <a:spcPts val="550"/>
              </a:spcBef>
              <a:buClr>
                <a:srgbClr val="3333cc"/>
              </a:buClr>
              <a:buFont typeface="Lucida Grand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Arial"/>
              </a:rPr>
              <a:t>Then, iterate within EP-TSG and with other TSGs in the next day(s)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71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re Science Group leaders requested XP list by Thu. 10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6"/>
          <p:cNvSpPr/>
          <p:nvPr/>
        </p:nvSpPr>
        <p:spPr>
          <a:xfrm>
            <a:off x="9220320" y="7070760"/>
            <a:ext cx="83808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DD08-B65C-48FE-9D80-EB203852E412}" type="slidenum">
              <a:rPr b="1" lang="en-US" sz="10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76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EP-TSG activities expected to shift from initial “basic” characterization/checkout to NB-CD, confinement physics 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66400" y="1218960"/>
            <a:ext cx="7139160" cy="5646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lvl="1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NB checkou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300" spc="-1" strike="noStrike">
              <a:solidFill>
                <a:srgbClr val="3333cc"/>
              </a:solidFill>
              <a:latin typeface="Arial"/>
            </a:endParaRPr>
          </a:p>
          <a:p>
            <a:pPr lvl="1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0"/>
                </a:solidFill>
                <a:latin typeface="Arial"/>
                <a:ea typeface="ヒラギノ角ゴ Pro W3"/>
              </a:rPr>
              <a:t>Are different NB lines behaving “as expected”? Are results consistent with “classical” expectations (NUBEAM)?</a:t>
            </a:r>
            <a:r>
              <a:rPr b="0" lang="en-US" sz="2300" spc="-1" strike="noStrike">
                <a:solidFill>
                  <a:srgbClr val="000090"/>
                </a:solidFill>
                <a:latin typeface="Arial"/>
                <a:ea typeface="ヒラギノ角ゴ Pro W3"/>
              </a:rPr>
              <a:t> </a:t>
            </a:r>
            <a:endParaRPr b="0" lang="en-US" sz="2300" spc="-1" strike="noStrike">
              <a:solidFill>
                <a:srgbClr val="3333cc"/>
              </a:solidFill>
              <a:latin typeface="Arial"/>
            </a:endParaRPr>
          </a:p>
          <a:p>
            <a:pPr lvl="1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cc"/>
              </a:solidFill>
              <a:latin typeface="Arial"/>
            </a:endParaRPr>
          </a:p>
          <a:p>
            <a:pPr lvl="1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Milestone R15-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300" spc="-1" strike="noStrike">
              <a:solidFill>
                <a:srgbClr val="3333cc"/>
              </a:solidFill>
              <a:latin typeface="Arial"/>
            </a:endParaRPr>
          </a:p>
          <a:p>
            <a:pPr lvl="1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0"/>
                </a:solidFill>
                <a:latin typeface="Arial"/>
                <a:ea typeface="ヒラギノ角ゴ Pro W3"/>
              </a:rPr>
              <a:t>Assess effects of NBI parameters on fast ion distribution function, NB driven current profile. 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FY15 FES Joint Research Mileston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300" spc="-1" strike="noStrike">
              <a:solidFill>
                <a:srgbClr val="3333cc"/>
              </a:solidFill>
              <a:latin typeface="Arial"/>
            </a:endParaRPr>
          </a:p>
          <a:p>
            <a:pPr lvl="1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0"/>
                </a:solidFill>
                <a:latin typeface="Arial"/>
                <a:ea typeface="ヒラギノ角ゴ Pro W3"/>
              </a:rPr>
              <a:t>Quantify impact of broadened current and pressure profiles on confinement and stability.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cc"/>
              </a:solidFill>
              <a:latin typeface="Arial"/>
            </a:endParaRPr>
          </a:p>
          <a:p>
            <a:pPr lvl="1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ITPA-EP Joint Experiment on NB-CD</a:t>
            </a:r>
            <a:endParaRPr b="0" lang="en-US" sz="23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0"/>
                </a:solidFill>
                <a:latin typeface="Arial"/>
                <a:ea typeface="ヒラギノ角ゴ Pro W3"/>
              </a:rPr>
              <a:t>NSTX-U/PPPL to lead the task (details to be discussed at March ITPA-EP meeting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9290160" y="7072200"/>
            <a:ext cx="8380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7886-44A0-4915-A86A-C35867C19503}" type="slidenum">
              <a:rPr b="1" lang="en-US" sz="10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1" name="Down Arrow 1"/>
          <p:cNvSpPr/>
          <p:nvPr/>
        </p:nvSpPr>
        <p:spPr>
          <a:xfrm>
            <a:off x="603360" y="1481040"/>
            <a:ext cx="304560" cy="5162760"/>
          </a:xfrm>
          <a:prstGeom prst="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buClr>
                <a:srgbClr val="1822cd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 rot="16200000">
            <a:off x="-296640" y="1608120"/>
            <a:ext cx="1289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1822cd"/>
                </a:solidFill>
                <a:latin typeface="Arial"/>
              </a:rPr>
              <a:t>Initial 4 weeks</a:t>
            </a:r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 rot="16200000">
            <a:off x="-511560" y="3755160"/>
            <a:ext cx="1719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1822cd"/>
                </a:solidFill>
                <a:latin typeface="Arial"/>
              </a:rPr>
              <a:t>After initial 4 weeks</a:t>
            </a:r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 rot="16200000">
            <a:off x="-435600" y="5869440"/>
            <a:ext cx="166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1822cd"/>
                </a:solidFill>
                <a:latin typeface="Arial"/>
              </a:rPr>
              <a:t>Possibly 2-year time-scale</a:t>
            </a:r>
            <a:endParaRPr b="1" i="1" lang="en-US" sz="1300" spc="-1" strike="noStrike">
              <a:solidFill>
                <a:srgbClr val="182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6:23:57Z</dcterms:created>
  <dc:creator>NSTX team member</dc:creator>
  <dc:description/>
  <dc:language>en-US</dc:language>
  <cp:lastModifiedBy>Mario Podesta'</cp:lastModifiedBy>
  <cp:lastPrinted>2015-02-23T18:20:11Z</cp:lastPrinted>
  <dcterms:modified xsi:type="dcterms:W3CDTF">2015-02-24T14:31:05Z</dcterms:modified>
  <cp:revision>12389</cp:revision>
  <dc:subject/>
  <dc:title>NSTX presentation</dc:title>
</cp:coreProperties>
</file>