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33640" y="684000"/>
            <a:ext cx="466704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9621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E01E-43A1-429E-B462-CB847E8646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FDBA-1501-47C8-A0CA-DE9AD365B0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364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4FCC-0248-442E-BE4A-9813A51CE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A55E-6993-4D90-A396-556C51124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256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9137-BD01-4BA1-BB10-B42C21067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50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78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50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78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27CD-0F61-4B25-956F-CC08151AFA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2B1F-1BE4-4ABB-8D29-367A29DE1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D8D3-0D6B-4895-8E11-30F954DD8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EDAE-38FC-4CFC-A7A0-FE83CC720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774B-A9D1-4E08-B966-FD621ABF7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E545-FAEC-45FC-9F88-6CA360515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E146-FAA4-487F-A803-AA4D8F1C5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256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24F9-2F4B-451C-8CB5-2D839DA0F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DE47-1F6C-4632-9A09-C6126990B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" name="Picture 194" descr=""/>
          <p:cNvPicPr/>
          <p:nvPr/>
        </p:nvPicPr>
        <p:blipFill>
          <a:blip r:embed="rId3"/>
          <a:stretch/>
        </p:blipFill>
        <p:spPr>
          <a:xfrm>
            <a:off x="0" y="6578640"/>
            <a:ext cx="9144000" cy="279360"/>
          </a:xfrm>
          <a:prstGeom prst="rect">
            <a:avLst/>
          </a:prstGeom>
          <a:ln w="0">
            <a:noFill/>
          </a:ln>
        </p:spPr>
      </p:pic>
      <p:sp>
        <p:nvSpPr>
          <p:cNvPr id="4" name="Text Box 199"/>
          <p:cNvSpPr/>
          <p:nvPr/>
        </p:nvSpPr>
        <p:spPr>
          <a:xfrm>
            <a:off x="272880" y="6635880"/>
            <a:ext cx="7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fc7"/>
                </a:solidFill>
                <a:latin typeface="Arial"/>
                <a:ea typeface="Arial"/>
              </a:rPr>
              <a:t>NSTX-U</a:t>
            </a: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381520" y="6629040"/>
            <a:ext cx="762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3333cc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A1EA-F373-48DA-8CB5-BD3FED7E9960}" type="slidenum">
              <a:rPr b="1" lang="en-US" sz="900" spc="-1" strike="noStrike">
                <a:solidFill>
                  <a:srgbClr val="3333cc"/>
                </a:solidFill>
                <a:latin typeface="Arial"/>
                <a:ea typeface="MS PGothic"/>
              </a:rPr>
              <a:t>&lt;number&gt;</a:t>
            </a:fld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1828800" y="6629400"/>
            <a:ext cx="548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2cd"/>
                </a:solidFill>
                <a:latin typeface="Arial"/>
                <a:ea typeface="Arial"/>
              </a:rPr>
              <a:t>NSTX-U Res. Forum 2015 – M&amp;P Agenda  and Introduction (2/25/2015)</a:t>
            </a:r>
            <a:endParaRPr b="1" i="1" lang="en-US" sz="8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traight Connector 58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1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2" name="Line 15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4" name="Line 1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5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9907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XP Prioritization</a:t>
            </a:r>
            <a:endParaRPr b="1" i="1" lang="en-US" sz="3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7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8" name="Line 1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9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562040" y="208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&amp;P TSG Group Discussion</a:t>
            </a:r>
            <a:endParaRPr b="1" i="1" lang="en-US" sz="20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2" name="Line 1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76520" y="3352680"/>
            <a:ext cx="5715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STX-U Research Forum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PPL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bruary 24-27, 2015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5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6" name="Line 1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8" name="Line 1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9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0" name="Line 1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1" name="Straight Connector 3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2" name="Line 1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3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4" name="Line 1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5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6" name="Line 1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7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8" name="Line 1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9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80" name="Picture 127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839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2" name="Line 1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3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4" name="Text Box 128"/>
          <p:cNvSpPr/>
          <p:nvPr/>
        </p:nvSpPr>
        <p:spPr>
          <a:xfrm>
            <a:off x="838080" y="109440"/>
            <a:ext cx="1905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71fc7"/>
                </a:solidFill>
                <a:latin typeface="Arial"/>
                <a:ea typeface="Arial"/>
              </a:rPr>
              <a:t>NSTX-U</a:t>
            </a:r>
            <a:endParaRPr b="1" i="1" lang="en-US" sz="3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5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6" name="Line 1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7" name="Straight Connector 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8" name="Rectangle 129"/>
          <p:cNvSpPr/>
          <p:nvPr/>
        </p:nvSpPr>
        <p:spPr>
          <a:xfrm>
            <a:off x="3651120" y="228600"/>
            <a:ext cx="153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upported by   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9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0" name="Line 14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1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3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94" name="Picture 53" descr="ppi224.tmp"/>
          <p:cNvPicPr/>
          <p:nvPr/>
        </p:nvPicPr>
        <p:blipFill>
          <a:blip r:embed="rId2"/>
          <a:stretch/>
        </p:blipFill>
        <p:spPr>
          <a:xfrm>
            <a:off x="7696080" y="2286000"/>
            <a:ext cx="129564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6" name="Text Box 153"/>
          <p:cNvSpPr/>
          <p:nvPr/>
        </p:nvSpPr>
        <p:spPr>
          <a:xfrm>
            <a:off x="7696080" y="2359440"/>
            <a:ext cx="12956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ulham Sci Ct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York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hubu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Fukui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Hiroshim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Hyogo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oto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ushu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ushu Tokai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IF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iigat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U Tokyo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JAE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0000"/>
                </a:solidFill>
                <a:latin typeface="Arial"/>
              </a:rPr>
              <a:t>Inst for Nucl Res, Kiev</a:t>
            </a:r>
            <a:endParaRPr b="1" i="1" lang="en-US" sz="8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offe Ins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TRINIT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honbuk Natl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FR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AIS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POSTECH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Seoul Natl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ASIPP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IEMA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FOM Inst DIFFE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ENEA, Frascat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EA, Cadarach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PP, Jülich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PP, Garching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ASCR, Czech Rep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7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8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9" name="Straight Connector 57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100" name="Picture 3" descr="C:\Users\jmenard\Desktop\Picture1.jpg"/>
          <p:cNvPicPr/>
          <p:nvPr/>
        </p:nvPicPr>
        <p:blipFill>
          <a:blip r:embed="rId3"/>
          <a:stretch/>
        </p:blipFill>
        <p:spPr>
          <a:xfrm>
            <a:off x="4237200" y="4495680"/>
            <a:ext cx="3078000" cy="22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8" descr="ppi221.tmp"/>
          <p:cNvPicPr/>
          <p:nvPr/>
        </p:nvPicPr>
        <p:blipFill>
          <a:blip r:embed="rId4"/>
          <a:stretch/>
        </p:blipFill>
        <p:spPr>
          <a:xfrm>
            <a:off x="152280" y="2209680"/>
            <a:ext cx="1295640" cy="4496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52"/>
          <p:cNvSpPr/>
          <p:nvPr/>
        </p:nvSpPr>
        <p:spPr>
          <a:xfrm>
            <a:off x="152280" y="2209680"/>
            <a:ext cx="125748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ll of Wm &amp; Mary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lumbi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mpX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General Atomic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FI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I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Johns Hopkins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A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L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odesta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MI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ehigh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Nova Photonic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OR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PP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rinceton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urdue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S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Think Tank, Inc.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 Davi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 Irvin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L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SD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Colorado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Illinoi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Maryland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Rocheste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Tennesse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Tuls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Washington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Wisconsin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X Science LLC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103" name="Picture 57" descr=""/>
          <p:cNvPicPr/>
          <p:nvPr/>
        </p:nvPicPr>
        <p:blipFill>
          <a:blip r:embed="rId5"/>
          <a:stretch/>
        </p:blipFill>
        <p:spPr>
          <a:xfrm>
            <a:off x="1763640" y="4343400"/>
            <a:ext cx="2274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lf-reported categoriz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2280" y="4568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hape development (cross-cutting time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-zation optimization (need to determine if already accounted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PP commission (cross-cutting ok NTC acces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stone support XPs (2 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stablish heat transmission pathways... (Jaworski) 1.5d (split B and Li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028520" indent="-20556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eading edge power loading... (Gray)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ehaviour of high-Z impurities… (Reinke) better fit for FY17 but discuss in PCTF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osion-modeling-MAPP connections (2 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oundary diagnostic optimized... (Soukhanovskii) 1d (B and Li throughout run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028520" indent="-20556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ichols WallDYN ELM-free (0.5 of 1)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 lvl="2" marL="1028520" indent="-20556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-situ IBA of targets... (Wright) (piggy-back)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Understanding longevity... (Scotti – Allain – Bedoya) 1d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028520" indent="-20556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riodic evaluation of PFC... (Scotti) (piggy-back)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 lvl="2" marL="1028520" indent="-20556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necting MAPP... (Scotti)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-zation optimization (Skinner) (if not XMP) .5d (other half from cross-cutting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Nichols ELM effects… piggy-bac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rface Science (Koel) (piggy-back and support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extured Mo surface (Skinner) (piggy-back low triangularity also shape dev. XMP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-zation optimization (Skinner) (if not XMP) .5d (other half from cross-cutting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tional prioritization and logistics for MAPP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P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6:23:57Z</dcterms:created>
  <dc:creator>NSTX team member</dc:creator>
  <dc:description/>
  <dc:language>en-US</dc:language>
  <cp:lastModifiedBy>Common</cp:lastModifiedBy>
  <dcterms:modified xsi:type="dcterms:W3CDTF">2015-02-25T18:00:07Z</dcterms:modified>
  <cp:revision>12410</cp:revision>
  <dc:subject/>
  <dc:title>NSTX presentation</dc:title>
</cp:coreProperties>
</file>