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33640" y="684000"/>
            <a:ext cx="4667040" cy="35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96216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DCB1-47F3-4DEB-BA14-2A1F62D732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6252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286C-6637-488D-AD46-E865E019D8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33640" y="68436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DB68-3810-4EA1-9B72-85C11E59F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8062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D1AB-786E-434F-9817-78CDF363C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256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BEE5-E993-49D8-A2BF-820151024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5080" y="121932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7880" y="121932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80628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5080" y="380628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7880" y="380628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6319-899D-4514-AB38-F95F2CB731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BD28-D1E5-407F-9EC0-107F9EF7E3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4DE9-5127-449A-9BF1-85786E6AF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A003-CC12-48C6-9768-292738385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3AF1-5256-4F38-8F58-6A483E7EB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ECC1-8A5C-49C7-818B-E3BC6D4F3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9B30-4047-46C2-AD8B-7342FA905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256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7B5F-4729-4066-ACD6-3D721E9BA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F97B-C7AF-41DA-9641-8F0BB509A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" name="Picture 194" descr=""/>
          <p:cNvPicPr/>
          <p:nvPr/>
        </p:nvPicPr>
        <p:blipFill>
          <a:blip r:embed="rId3"/>
          <a:stretch/>
        </p:blipFill>
        <p:spPr>
          <a:xfrm>
            <a:off x="0" y="6578640"/>
            <a:ext cx="9144000" cy="279360"/>
          </a:xfrm>
          <a:prstGeom prst="rect">
            <a:avLst/>
          </a:prstGeom>
          <a:ln w="0">
            <a:noFill/>
          </a:ln>
        </p:spPr>
      </p:pic>
      <p:sp>
        <p:nvSpPr>
          <p:cNvPr id="4" name="Text Box 199"/>
          <p:cNvSpPr/>
          <p:nvPr/>
        </p:nvSpPr>
        <p:spPr>
          <a:xfrm>
            <a:off x="272880" y="6635880"/>
            <a:ext cx="7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fc7"/>
                </a:solidFill>
                <a:latin typeface="Arial"/>
                <a:ea typeface="Arial"/>
              </a:rPr>
              <a:t>NSTX-U</a:t>
            </a: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381520" y="6629040"/>
            <a:ext cx="762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3333cc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D0D5-0864-43CF-9ADB-81E992A4AED3}" type="slidenum">
              <a:rPr b="1" lang="en-US" sz="900" spc="-1" strike="noStrike">
                <a:solidFill>
                  <a:srgbClr val="3333cc"/>
                </a:solidFill>
                <a:latin typeface="Arial"/>
                <a:ea typeface="MS PGothic"/>
              </a:rPr>
              <a:t>&lt;number&gt;</a:t>
            </a:fld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1828800" y="6629400"/>
            <a:ext cx="548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2cd"/>
                </a:solidFill>
                <a:latin typeface="Arial"/>
                <a:ea typeface="Arial"/>
              </a:rPr>
              <a:t>NSTX-U Res. Forum 2015 – M&amp;P Agenda  and Introduction (2/25/2015)</a:t>
            </a:r>
            <a:endParaRPr b="1" i="1" lang="en-US" sz="8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traight Connector 58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1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2" name="Line 150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3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4" name="Line 1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5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9907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S PGothic"/>
              </a:rPr>
              <a:t>XP Prioritization</a:t>
            </a:r>
            <a:endParaRPr b="1" i="1" lang="en-US" sz="3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7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8" name="Line 1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9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562040" y="208296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&amp;P TSG Group Discussion</a:t>
            </a:r>
            <a:endParaRPr b="1" i="1" lang="en-US" sz="20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1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2" name="Line 1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3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676520" y="3352680"/>
            <a:ext cx="5715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STX-U Research Forum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PPL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bruary 24-27, 2015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5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6" name="Line 1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7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8" name="Line 1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9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0" name="Line 1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1" name="Straight Connector 3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2" name="Line 14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3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4" name="Line 1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5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6" name="Line 1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7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8" name="Line 1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9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80" name="Picture 127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8395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2" name="Line 1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3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4" name="Text Box 128"/>
          <p:cNvSpPr/>
          <p:nvPr/>
        </p:nvSpPr>
        <p:spPr>
          <a:xfrm>
            <a:off x="838080" y="109440"/>
            <a:ext cx="1905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71fc7"/>
                </a:solidFill>
                <a:latin typeface="Arial"/>
                <a:ea typeface="Arial"/>
              </a:rPr>
              <a:t>NSTX-U</a:t>
            </a:r>
            <a:endParaRPr b="1" i="1" lang="en-US" sz="36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5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6" name="Line 1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7" name="Straight Connector 4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8" name="Rectangle 129"/>
          <p:cNvSpPr/>
          <p:nvPr/>
        </p:nvSpPr>
        <p:spPr>
          <a:xfrm>
            <a:off x="3651120" y="228600"/>
            <a:ext cx="153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Supported by   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9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0" name="Line 149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1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2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3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94" name="Picture 53" descr="ppi224.tmp"/>
          <p:cNvPicPr/>
          <p:nvPr/>
        </p:nvPicPr>
        <p:blipFill>
          <a:blip r:embed="rId2"/>
          <a:stretch/>
        </p:blipFill>
        <p:spPr>
          <a:xfrm>
            <a:off x="7696080" y="2286000"/>
            <a:ext cx="1295640" cy="441972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6" name="Text Box 153"/>
          <p:cNvSpPr/>
          <p:nvPr/>
        </p:nvSpPr>
        <p:spPr>
          <a:xfrm>
            <a:off x="7696080" y="2359440"/>
            <a:ext cx="12956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ulham Sci Ct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York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hubu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Fukui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Hiroshima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Hyogo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yoto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yushu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yushu Tokai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NIF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Niigata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U Tokyo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JAEA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0000"/>
                </a:solidFill>
                <a:latin typeface="Arial"/>
              </a:rPr>
              <a:t>Inst for Nucl Res, Kiev</a:t>
            </a:r>
            <a:endParaRPr b="1" i="1" lang="en-US" sz="8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Ioffe Ins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TRINITI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honbuk Natl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NFRI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AIS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POSTECH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Seoul Natl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ASIPP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IEMA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FOM Inst DIFFE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ENEA, Frascati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EA, Cadarache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IPP, Jülich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IPP, Garching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ASCR, Czech Rep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7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8" name="Straight Connector 5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9" name="Straight Connector 57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100" name="Picture 3" descr="C:\Users\jmenard\Desktop\Picture1.jpg"/>
          <p:cNvPicPr/>
          <p:nvPr/>
        </p:nvPicPr>
        <p:blipFill>
          <a:blip r:embed="rId3"/>
          <a:stretch/>
        </p:blipFill>
        <p:spPr>
          <a:xfrm>
            <a:off x="4237200" y="4495680"/>
            <a:ext cx="3078000" cy="221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8" descr="ppi221.tmp"/>
          <p:cNvPicPr/>
          <p:nvPr/>
        </p:nvPicPr>
        <p:blipFill>
          <a:blip r:embed="rId4"/>
          <a:stretch/>
        </p:blipFill>
        <p:spPr>
          <a:xfrm>
            <a:off x="152280" y="2209680"/>
            <a:ext cx="1295640" cy="4496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52"/>
          <p:cNvSpPr/>
          <p:nvPr/>
        </p:nvSpPr>
        <p:spPr>
          <a:xfrm>
            <a:off x="152280" y="2209680"/>
            <a:ext cx="1257480" cy="44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Coll of Wm &amp; Mary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Columbia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CompX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General Atomic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FI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I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Johns Hopkins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A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L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odesta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MI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ehigh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Nova Photonic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OR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PPP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Princeton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Purdue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S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Think Tank, Inc.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 Davi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 Irvine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LA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SD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Colorado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Illinoi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Maryland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Rocheste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Tennessee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Tulsa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Washington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Wisconsin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X Science LLC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103" name="Picture 57" descr=""/>
          <p:cNvPicPr/>
          <p:nvPr/>
        </p:nvPicPr>
        <p:blipFill>
          <a:blip r:embed="rId5"/>
          <a:stretch/>
        </p:blipFill>
        <p:spPr>
          <a:xfrm>
            <a:off x="1763640" y="4343400"/>
            <a:ext cx="2274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lf-reported categoriza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estone support X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stablish heat transmission pathways... (Jaworski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Leading edge power loading... (Gray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oundary diagnostic optimized... (Soukhanovskii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ehaviour of high-Z impurities… (Reinke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omparison of material migration... (Nichols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LM effects on mixed material... (Nichols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&amp;P Thrust X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urface Science (Koel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extured Mo surface (Skinner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-situ IBA of targets... (Wright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onnecting MAPP measurements... (Scotti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eriodic evaluation of PFC... (Scotti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Understanding the longevity... (Scotti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tional prioritization and logistics for MAPP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P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6:23:57Z</dcterms:created>
  <dc:creator>NSTX team member</dc:creator>
  <dc:description/>
  <dc:language>en-US</dc:language>
  <cp:lastModifiedBy>Michael Jaworski</cp:lastModifiedBy>
  <dcterms:modified xsi:type="dcterms:W3CDTF">2015-02-25T16:59:21Z</dcterms:modified>
  <cp:revision>12404</cp:revision>
  <dc:subject/>
  <dc:title>NSTX presentation</dc:title>
</cp:coreProperties>
</file>