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33640" y="684000"/>
            <a:ext cx="4667040" cy="35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9621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342D-663D-4543-984B-5E43C6ABBC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6252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167D-8F39-44AC-A440-ACE6AD896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364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06C9-4EF1-4EF5-9713-ED63D8DC5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266C-0AD8-4484-848B-6C95A4AA2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256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65E9-C844-4CD2-81E6-6B5DEC47C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50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78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50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78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0AB5-3E8C-4594-A3E1-F58104F18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728E-1F55-424A-A4DC-64068EC091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C7BD-0E87-4A0B-BEC6-465706D54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A785-A2F3-400E-A8C4-FD8E3C92C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5F15-8B23-4402-AAC5-0F99CD471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EBD9-F627-4032-ABF7-4ED184674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5455-9CA7-44FE-8BBE-D909B8944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256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7DDE-CA6B-4539-8FF2-9B1DFBDD0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7D73-2328-4293-8AEF-FC4B615EF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" name="Picture 194" descr=""/>
          <p:cNvPicPr/>
          <p:nvPr/>
        </p:nvPicPr>
        <p:blipFill>
          <a:blip r:embed="rId3"/>
          <a:stretch/>
        </p:blipFill>
        <p:spPr>
          <a:xfrm>
            <a:off x="0" y="6578640"/>
            <a:ext cx="9144000" cy="279360"/>
          </a:xfrm>
          <a:prstGeom prst="rect">
            <a:avLst/>
          </a:prstGeom>
          <a:ln w="0">
            <a:noFill/>
          </a:ln>
        </p:spPr>
      </p:pic>
      <p:sp>
        <p:nvSpPr>
          <p:cNvPr id="4" name="Text Box 199"/>
          <p:cNvSpPr/>
          <p:nvPr/>
        </p:nvSpPr>
        <p:spPr>
          <a:xfrm>
            <a:off x="272880" y="6635880"/>
            <a:ext cx="7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fc7"/>
                </a:solidFill>
                <a:latin typeface="Arial"/>
                <a:ea typeface="Arial"/>
              </a:rPr>
              <a:t>NSTX-U</a:t>
            </a: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381520" y="6629040"/>
            <a:ext cx="762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B9D8-1B45-43D7-BB21-66777C1AD28A}" type="slidenum">
              <a:rPr b="1" lang="en-US" sz="9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1828800" y="6629400"/>
            <a:ext cx="548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2cd"/>
                </a:solidFill>
                <a:latin typeface="Arial"/>
                <a:ea typeface="Arial"/>
              </a:rPr>
              <a:t>2015 NSTX-U Research Forum– Integrated Scenarios SG,  S.P. Gerhardt (2/24/2015)</a:t>
            </a:r>
            <a:endParaRPr b="1" i="1" lang="en-US" sz="8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traight Connector 58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1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2" name="Line 15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3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4" name="Line 1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5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9907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grated Scenarios SG Discussion</a:t>
            </a:r>
            <a:endParaRPr b="1" i="1" lang="en-US" sz="3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7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8" name="Line 1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9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447920" y="19810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fan Gerhardt (PPPL): SG Leader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ger Raman (U. of Washington): Deputy SG Leader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2" name="Line 1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3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676520" y="3048120"/>
            <a:ext cx="5715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STX-U 2015 Research Forum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CR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/26/2015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5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6" name="Line 1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8" name="Line 1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9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0" name="Line 1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1" name="Straight Connector 3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2" name="Line 1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3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4" name="Line 1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5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6" name="Line 1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7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8" name="Line 1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9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80" name="Picture 127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839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2" name="Line 1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3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4" name="Text Box 128"/>
          <p:cNvSpPr/>
          <p:nvPr/>
        </p:nvSpPr>
        <p:spPr>
          <a:xfrm>
            <a:off x="838080" y="109440"/>
            <a:ext cx="1905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71fc7"/>
                </a:solidFill>
                <a:latin typeface="Arial"/>
                <a:ea typeface="Arial"/>
              </a:rPr>
              <a:t>NSTX-U</a:t>
            </a:r>
            <a:endParaRPr b="1" i="1" lang="en-US" sz="3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5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6" name="Line 1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7" name="Straight Connector 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8" name="Rectangle 129"/>
          <p:cNvSpPr/>
          <p:nvPr/>
        </p:nvSpPr>
        <p:spPr>
          <a:xfrm>
            <a:off x="3651120" y="228600"/>
            <a:ext cx="153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upported by   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9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0" name="Line 14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1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3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94" name="Picture 53" descr="ppi224.tmp"/>
          <p:cNvPicPr/>
          <p:nvPr/>
        </p:nvPicPr>
        <p:blipFill>
          <a:blip r:embed="rId2"/>
          <a:stretch/>
        </p:blipFill>
        <p:spPr>
          <a:xfrm>
            <a:off x="7696080" y="2286000"/>
            <a:ext cx="129564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6" name="Text Box 153"/>
          <p:cNvSpPr/>
          <p:nvPr/>
        </p:nvSpPr>
        <p:spPr>
          <a:xfrm>
            <a:off x="7696080" y="2359440"/>
            <a:ext cx="12956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ulham Sci Ct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York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hubu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Fukui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Hiroshim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Hyogo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oto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ushu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ushu Tokai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IF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iigat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U Tokyo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JAE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0000"/>
                </a:solidFill>
                <a:latin typeface="Arial"/>
              </a:rPr>
              <a:t>Inst for Nucl Res, Kiev</a:t>
            </a:r>
            <a:endParaRPr b="1" i="1" lang="en-US" sz="8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offe Ins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TRINIT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honbuk Natl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FR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AIS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POSTECH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Seoul Natl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ASIPP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IEMA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FOM Inst DIFFE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ENEA, Frascat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EA, Cadarach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PP, Jülich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PP, Garching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ASCR, Czech Rep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7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8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9" name="Straight Connector 57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100" name="Picture 3" descr="C:\Users\jmenard\Desktop\Picture1.jpg"/>
          <p:cNvPicPr/>
          <p:nvPr/>
        </p:nvPicPr>
        <p:blipFill>
          <a:blip r:embed="rId3"/>
          <a:stretch/>
        </p:blipFill>
        <p:spPr>
          <a:xfrm>
            <a:off x="4237200" y="4495680"/>
            <a:ext cx="3078000" cy="22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8" descr="ppi221.tmp"/>
          <p:cNvPicPr/>
          <p:nvPr/>
        </p:nvPicPr>
        <p:blipFill>
          <a:blip r:embed="rId4"/>
          <a:stretch/>
        </p:blipFill>
        <p:spPr>
          <a:xfrm>
            <a:off x="152280" y="2209680"/>
            <a:ext cx="1295640" cy="4496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52"/>
          <p:cNvSpPr/>
          <p:nvPr/>
        </p:nvSpPr>
        <p:spPr>
          <a:xfrm>
            <a:off x="152280" y="2209680"/>
            <a:ext cx="125748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ll of Wm &amp; Mary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lumbi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mpX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General Atomic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FI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I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Johns Hopkins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A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L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odesta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MI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ehigh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Nova Photonic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OR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PP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rinceton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urdue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S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Think Tank, Inc.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 Davi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 Irvin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L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SD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Colorado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Illinoi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Maryland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Rocheste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Tennesse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Tuls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Washington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Wisconsin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X Science LLC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103" name="Picture 57" descr=""/>
          <p:cNvPicPr/>
          <p:nvPr/>
        </p:nvPicPr>
        <p:blipFill>
          <a:blip r:embed="rId5"/>
          <a:stretch/>
        </p:blipFill>
        <p:spPr>
          <a:xfrm>
            <a:off x="1763640" y="4343400"/>
            <a:ext cx="2274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Y-17 Mileston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 Mile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 run day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 Control Mile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 days of current profile contro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0.5 days of rotation profile contro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ed By First Aut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stribution of First Authors (not including CC&amp;E, XMPs)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~12 First Author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320" y="950760"/>
          <a:ext cx="8991360" cy="5602320"/>
        </p:xfrm>
        <a:graphic>
          <a:graphicData uri="http://schemas.openxmlformats.org/drawingml/2006/table">
            <a:tbl>
              <a:tblPr/>
              <a:tblGrid>
                <a:gridCol w="1371600"/>
                <a:gridCol w="3774960"/>
                <a:gridCol w="1922400"/>
                <a:gridCol w="1922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P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 Days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hardt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non-inductiv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C)</a:t>
                      </a:r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Development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 Days)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aglia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est Possible Puls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C)</a:t>
                      </a:r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I Overdriv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C)</a:t>
                      </a:r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h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rsed Shear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C)</a:t>
                      </a:r>
                      <a:endParaRPr b="1" i="1" lang="en-US" sz="10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emen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D Control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C)</a:t>
                      </a:r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Development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 Days)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 Control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C)</a:t>
                      </a:r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er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profile control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l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ntrol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SC)</a:t>
                      </a:r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telli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 in NB plasmas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F)</a:t>
                      </a:r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FW at Higher Current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Days)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ins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 Losses in H-mod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F)</a:t>
                      </a:r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Smith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 Density Perturbation with BES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F)</a:t>
                      </a:r>
                      <a:endParaRPr b="1" i="1" lang="en-US" sz="10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/Taylor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Current Ramp-up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5 RF+ 1.0 SFSU)</a:t>
                      </a:r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p-Up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 Days)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an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ent CHI startup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FSU)</a:t>
                      </a:r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 (2.5 Days)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1" i="1" lang="en-US" sz="18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ive Rampup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FSU)</a:t>
                      </a:r>
                      <a:endParaRPr b="1" i="1" lang="en-US" sz="10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RF and SFSU run time is severely constrained.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28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HFW could use mor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ssu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t development of RF needs to be accomplished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tally dropped the HHFW impact on rotation study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time allocted for explicitly studying the impact of RF on impurities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itigation strateg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ed to use the commissioning XMP to get some data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ll learn from XPs that use RF in other groups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 is likely the more critically impa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tally new geometry in the injector/absorber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evious 10 minute shot cycle may not be achievable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get it will require numerous tricks with the coil protection system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 total days severely limits the progress that can be made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likely to fully optimize the scenario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ut Through the Present Run Time Alloc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erms of the TSG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we meeting our goals?...or at least most of them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erms of the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we making enough milestone contributions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erms of the First Auth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we spreading the wealth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ed By TSG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vanced Scenarios and Control Goal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y mechanisms limiting vertical stability and what additional capabilities are required for achieving vertical stability at high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 explicit ASC time…assuming 1 day of CC&amp;E as per discussion with RC (Boyer, Kolemen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valuate access and scalability of three scenari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igh non-inductive fraction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 days ASC (Gerhardt)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igh(est) current and field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No explicit ASC time…assumed CC&amp;E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ong(est) puls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day ASC (Battaglia)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vance capabilities of tokamak/ST control and disruption avoid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.5 days ASC for SFD control (Kolemen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.75 days ASC for current profile control topics (Boyer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.5 day ASC for rotation control (leader TBD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hieve scenarios that optimize the verification and validation of transport and confinement modeling and predictive tool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.5 days ASC for reversed shear studi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hieve steady-state density and radiation at a fixed fraction (0.5-0.8) of n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 explicit ASC time, but longest pulse XP will challenge it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F Heating and Current Drive Goal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reliable coupling in L- and H-mode plasmas, w/ and w/o NB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25 RF days (Perkin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HHFW absorption in NBI-heated plas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5 RF days (Bertelli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non-inductive low current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300 kA) H-modes with HHFW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5 RF days + 1 days SFSU for low-current ramp-up studies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O-X-B coupling with synthetic aperture microwave imaging (SAM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explicit run time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lenoid Free Start-up and Ramp-up Goal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the CHI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XMP, no explicit SFSU run time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 CHI plasma 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2 days SFSU (Raman)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ive ramp-up of the CHI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0.5 days SFSU (Nelson)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FW heating and CD of low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s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1 SFSU + 0.5 RF for low current studies (Poli, Taylor,…)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FW heating of CHI formed plas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0 run days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I overdrive of low and moderate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s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0.5 ASC days (Poli)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ment of NBI overdriven cases with NBI and pressure drive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No explicit run time beyond Poli and Gerhardt in ASC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activities for Point Source Helicity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Piggyback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controlled fluctuations on edge current drive (MH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Piggyback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ed By Milestone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Y-15 Mileston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5-1: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C&amp;E/XMPs for shot developm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5-2: Beam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 days in ASC for current profile control with beams. (Boyer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0.5 days in ASC reversed shear (Yuh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0.5 days in ASC for NB overdrive (Poli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5-3: Operation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 days in ASC 100% non-inductive (Gerhardt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day in ASC longest pulse (Battaglia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.25 days in ASC for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+l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control (Boyer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0.5 days in ASC for rotation control (TBD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.5 days for SFD contro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Y-16 Mileston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6-1: Advanced Diver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C&amp;E on S.P. control + 1.5 days SFD control in ASC (Kolemen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6-2: High-Z P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C&amp;E on S.P. control + 1.5 days SFD control in ASC (Kolemen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6-3: HHFW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.25 days in RF on SOL losses (Perkin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.5 days in RF on core heating and FI interactions (Bertelli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0.25 days in RF for BES measurements (D. Smith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6-4: High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 Days high 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N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in ASC (Gerhardt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0.5 days NB Overdrive in ASC (Poli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6:23:57Z</dcterms:created>
  <dc:creator>NSTX team member</dc:creator>
  <dc:description/>
  <dc:language>en-US</dc:language>
  <cp:lastModifiedBy>Stefan Gerhardt</cp:lastModifiedBy>
  <cp:lastPrinted>2015-02-24T01:18:14Z</cp:lastPrinted>
  <dcterms:modified xsi:type="dcterms:W3CDTF">2015-02-26T18:21:57Z</dcterms:modified>
  <cp:revision>12405</cp:revision>
  <dc:subject/>
  <dc:title>NSTX presentation</dc:title>
</cp:coreProperties>
</file>